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0ED-0046-4C8A-9F97-BE9BCD4C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BD44-7B4F-4C77-B382-A9CCE4DB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11CD8-4DA5-45CC-81BE-C23D990B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971D2-6ADE-4576-89D0-260CE15F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2D68C-04EA-408A-A182-9ED19D7F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63CDA-AF8F-4CE1-B385-D919C16F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D7AF3-8B92-463A-8EC0-EEAE7E1D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CEBDC-A4B0-43EC-8FDE-215D5D1F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9B6A5-C86F-4E8E-BD73-C3113529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A22E07-4856-4540-B91F-55686778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F8A970-C3BE-4DBC-929F-C6BD8ADE9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2B97A-705D-49F9-BA53-13514BE2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41F-40E9-44CB-9420-57A73374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9EE19-5FA0-4FA3-9E32-419F2AB5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322E44-65F7-4C33-A8E6-F636AF74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C76E-0F7D-4934-8C10-687B407B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6FD387-4A47-444F-A917-F631CC51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1C9E1A-65B3-4F31-A55D-26EFFC7D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BC516-61F5-4693-A5B0-54161D8A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669F5F-0D11-426D-AAF0-A002730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B2F1F-22D1-4D25-9835-29DE6EAD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E80CA-D249-40B7-BBAC-A73732D4C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A053-E895-420D-8B8D-4665BF51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165-FFC6-49C3-BB8D-5290E839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378DA0-15CD-4779-B54A-C92F34F9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3B782-832B-4026-A34D-C40DB2ED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DA27A-91E3-4820-863E-182460F2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66CF8D-5D71-4F27-A79A-F8A7E10C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21EB9-F006-4362-A5A5-202B7A15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BEA5B-33A0-4DF5-9979-37A011A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1996D-D6C1-450B-B0C0-FEF86C8B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934B0-4436-4F82-B600-AA21A888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BF45BE-0273-4E6D-8468-7C8DBD42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CF91A-102D-4E9C-8E9D-2ED9BDAB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6F15-0F89-4F00-ABBE-05BA2DE1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1DF49-F8B5-435F-A593-2F095748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AC58B-FBC8-4BAD-8496-5B42DA170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FA5A5-93E2-4D63-A765-99778EE2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5F289-B14E-4904-8F38-B8A31A17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EC958-A025-4B83-8F12-35BF8F4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72B8B-1979-4315-9309-44C80DCE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25950-A7D7-4AEB-A7E7-3C58EA78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A347DF-4043-44F6-91AD-02C829CB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F1761-BC67-474C-BA4A-6A6282A2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55B281-B1C0-4774-B122-2593078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C6DEA-D499-42CA-A4D7-13DC4B28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23B1B-2A40-42D5-957C-D9657A4F6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38465-12F6-4AA8-95A8-94EEBAB9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EB5F0-30BD-40AD-BE9F-5303680A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B4177-FDCD-40A1-BF2F-4CD88071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2AED8-F347-40EF-8782-2DAE18537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A141-AD3D-4F52-A66A-8FC8A7C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478E-3D26-447C-87AF-DF6022DC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3BDB-5878-44D6-8F4C-2859BEED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7081-5195-42B4-8E8A-6ED78FAD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B08C1-25FC-46E0-BB97-6FA3C847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DC5-34A6-4570-BB31-B71F1447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9F4CF-B81E-497C-94FE-FAB9FDC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0FFA-A3FF-44BC-8D00-D81216F3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5EDE-E5A9-46FD-891C-A6393B45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A897-5887-4EAA-882D-18669B7D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0DD6-46D9-4E1A-A6B3-E4950B5B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D389E-D7F5-48AE-B805-B2BE2877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24C13-209D-4727-8113-270EBF14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7B5E0-A10C-4C9F-BA81-D4F69A4A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52D01-0F0E-4A93-823F-1C774B98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1CBA-84D4-42C0-9556-9FF92FD44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6E9-0152-400F-A0CA-98753695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9B83-5D65-44E7-A761-19D064AD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33949-BE60-4CEC-90F6-6AE5790E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82FCC-B3A3-4E93-A0D3-5E3C1110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2D672-DE5E-4A4F-B644-87029A88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E6546-B64E-40B7-BD25-E3A40879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88991-7D10-467F-9A3C-4798FB46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0376-3C6D-45A1-BF6A-2A5AB211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8723E-57BA-4F4C-9E45-C3860E94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33D46-6848-4447-AA39-710ED395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AA742-A1BE-4E96-A190-0B479E18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28E-8534-417A-A9A7-6EDD9EA3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F0243-5BF7-4512-B139-807A972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DE79E-C074-4593-B31B-749AA32D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2AE6F-B91F-4E2A-B97E-E5E6AA08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30EC9-7407-4F89-BE55-5B46BA44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FF23-50AD-4D16-AC15-73717DEE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ED7A4-0628-48D0-B85A-2FF22F98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DF9C4-A3E0-4545-9779-493DE898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2808F-FD11-41CB-B805-383BD318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3394F-230A-4DE9-9DEA-EBF476352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B8323-34B8-4189-862E-0EEE4DFA1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E4BF-BA1F-4555-B7A6-7268945C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50996-D1B5-4F7B-AAE9-5370F3D76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7B73B-73B4-4048-9A58-6B42D0F4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45292-73F1-40C6-A6F4-AC3C417E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5E01B-EF49-43BB-8CCA-0B5EE7C0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5C33D-7938-41DC-82EA-2C8BEAE4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DB5CF-8F7C-44E5-99C0-8D11A9ED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9E937-C578-45F2-9DC7-15776EA6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36E1B-D1C9-48E0-8326-0BBFF0A6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299E2-BAD7-406C-BE9D-0D099BB7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3C17F-73EC-4C66-AEEF-0394BE6FE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769A-7AFD-4DBB-8968-48CAB5DC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6B605-8E58-4FDC-8E7E-BB4D2A26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42AFE-1A50-4F2E-923E-75A280816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388A81-8526-406E-B604-7B1877EF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A9750-ACD4-4BF4-99CF-CD735BF3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4CC90-AB49-4755-A04C-F9061CED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83111-6787-410F-8FB2-676CA016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662CD-3385-4BBA-915C-0A8705FA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7BF0A-54AA-4B5F-8007-F4EADD3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35893-038A-4152-B56D-9831358F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9C997-C4D1-4FBD-9647-F06F8D26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481-8357-448E-9BF6-6A473988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CB67-EDCB-4D72-90D2-9B72969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92EDC-8D80-4F18-9C9E-84AB73549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7052F-08F2-4DAA-B907-07F62537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1C3A7-E6B8-4848-BC9D-F7936EEA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D3E003-8412-429D-BD07-8E477555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64449-CEDD-4E19-AF92-9A075197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8FD59-CE24-433E-BD68-3817430F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9EDEE-ED63-4F99-8540-5C4ED743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8DEC53-37F9-4B34-9325-995B7C6F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2388D-932F-42EB-94B1-B7B0AD06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D834-26CF-4E10-B761-7225A00D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C4B1D-AD72-4AC2-98F7-62FC740A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6C21D-BD0E-482F-958A-F50761D5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44B8A-F72F-412B-BF2E-F95AFE9B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811D3-8E78-48CA-B390-DEF19B23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741155-4D97-462F-B2AF-F7F6E3A51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88DFA-8653-40A5-B29E-1CADCBC42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5FF0B-28A4-4595-AF9C-B16A661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11B62-6910-4E9E-87A5-CBC822286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0ABCE-3D6C-411A-8F31-44FE20DB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DBE5E-3E07-4BBC-9AE2-10A620AC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AA2-FA35-468D-99A4-D1854D8B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719280" y="33300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CE91B-A543-479A-9E38-B58DA1E1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BAA25-5DE5-4727-9105-CE654C7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6A0F-0AB5-4827-9840-EE54694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82514-98D9-4A13-9929-950719D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09480" y="3966480"/>
            <a:ext cx="10972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DF002-B11D-4378-A622-1374E8F9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59984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6232320" y="3966480"/>
            <a:ext cx="53546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C4475-DB78-4C3B-8FFD-41D1ECE0C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31964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029800" y="159984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60948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431964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8029800" y="3966480"/>
            <a:ext cx="353304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47C6-7F26-43C9-916B-87F4C4E74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5ABB0-807F-40D2-97EB-ED01DD45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09017-4923-4294-BFCC-7CABB7F6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B30ED-8802-4490-BF8E-96CEA353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51201" descr=""/>
          <p:cNvPicPr/>
          <p:nvPr/>
        </p:nvPicPr>
        <p:blipFill>
          <a:blip r:embed="rId2"/>
          <a:stretch/>
        </p:blipFill>
        <p:spPr>
          <a:xfrm>
            <a:off x="0" y="0"/>
            <a:ext cx="288288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51202"/>
          <p:cNvGrpSpPr/>
          <p:nvPr/>
        </p:nvGrpSpPr>
        <p:grpSpPr>
          <a:xfrm>
            <a:off x="814320" y="5300640"/>
            <a:ext cx="10153080" cy="1106640"/>
            <a:chOff x="814320" y="5300640"/>
            <a:chExt cx="10153080" cy="1106640"/>
          </a:xfrm>
        </p:grpSpPr>
        <p:sp>
          <p:nvSpPr>
            <p:cNvPr id="2" name="椭圆 51203"/>
            <p:cNvSpPr/>
            <p:nvPr/>
          </p:nvSpPr>
          <p:spPr>
            <a:xfrm flipH="1">
              <a:off x="5877360" y="5300640"/>
              <a:ext cx="147312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51204"/>
            <p:cNvSpPr/>
            <p:nvPr/>
          </p:nvSpPr>
          <p:spPr>
            <a:xfrm flipH="1">
              <a:off x="9496440" y="530064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51205"/>
            <p:cNvSpPr/>
            <p:nvPr/>
          </p:nvSpPr>
          <p:spPr>
            <a:xfrm flipH="1">
              <a:off x="814320" y="5302080"/>
              <a:ext cx="147096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51206"/>
            <p:cNvSpPr/>
            <p:nvPr/>
          </p:nvSpPr>
          <p:spPr>
            <a:xfrm flipH="1">
              <a:off x="781848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51207"/>
            <p:cNvSpPr/>
            <p:nvPr/>
          </p:nvSpPr>
          <p:spPr>
            <a:xfrm flipH="1">
              <a:off x="2530800" y="530064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0B6A-8305-4D2F-B6C8-070AA6D746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7701-4366-4E1A-9A13-DE02D3E90D9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17B2-3C75-4EA6-A7CD-19D54631F02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2341-FD64-4B79-998D-F0351515D2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52225"/>
          <p:cNvGrpSpPr/>
          <p:nvPr/>
        </p:nvGrpSpPr>
        <p:grpSpPr>
          <a:xfrm>
            <a:off x="2211480" y="1600200"/>
            <a:ext cx="9116280" cy="3200400"/>
            <a:chOff x="2211480" y="1600200"/>
            <a:chExt cx="9116280" cy="3200400"/>
          </a:xfrm>
        </p:grpSpPr>
        <p:sp>
          <p:nvSpPr>
            <p:cNvPr id="49" name="椭圆 52226"/>
            <p:cNvSpPr/>
            <p:nvPr/>
          </p:nvSpPr>
          <p:spPr>
            <a:xfrm flipH="1">
              <a:off x="929520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52227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52228"/>
            <p:cNvSpPr/>
            <p:nvPr/>
          </p:nvSpPr>
          <p:spPr>
            <a:xfrm flipH="1">
              <a:off x="4520520" y="160020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52229"/>
            <p:cNvSpPr/>
            <p:nvPr/>
          </p:nvSpPr>
          <p:spPr>
            <a:xfrm flipH="1">
              <a:off x="452052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52230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52231"/>
            <p:cNvSpPr/>
            <p:nvPr/>
          </p:nvSpPr>
          <p:spPr>
            <a:xfrm flipH="1">
              <a:off x="9295200" y="327672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39A9-A63D-4478-AEDB-74713EF85FA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95CC-E2FA-46D2-B294-37485A8BE77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917E-2531-440A-AA36-95C7E48ECBD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0178-91C2-4A73-8D13-4A563402EA8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7B7F-FDF7-4314-A6FA-6420FF395D3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AAE0-7C5D-48AE-A0A8-7B55100417A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1F8E-B649-440A-86EF-389506EC0C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EFC1-7237-429F-97A2-ABB90BF8C7D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5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0.png"/><Relationship Id="rId28" Type="http://schemas.openxmlformats.org/officeDocument/2006/relationships/image" Target="../media/image12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4.png"/><Relationship Id="rId33" Type="http://schemas.openxmlformats.org/officeDocument/2006/relationships/image" Target="../media/image15.png"/><Relationship Id="rId34" Type="http://schemas.openxmlformats.org/officeDocument/2006/relationships/image" Target="../media/image15.png"/><Relationship Id="rId35" Type="http://schemas.openxmlformats.org/officeDocument/2006/relationships/image" Target="../media/image15.png"/><Relationship Id="rId36" Type="http://schemas.openxmlformats.org/officeDocument/2006/relationships/image" Target="../media/image16.png"/><Relationship Id="rId37" Type="http://schemas.openxmlformats.org/officeDocument/2006/relationships/image" Target="../media/image15.png"/><Relationship Id="rId38" Type="http://schemas.openxmlformats.org/officeDocument/2006/relationships/image" Target="../media/image8.png"/><Relationship Id="rId39" Type="http://schemas.openxmlformats.org/officeDocument/2006/relationships/image" Target="../media/image9.png"/><Relationship Id="rId40" Type="http://schemas.openxmlformats.org/officeDocument/2006/relationships/image" Target="../media/image8.png"/><Relationship Id="rId41" Type="http://schemas.openxmlformats.org/officeDocument/2006/relationships/image" Target="../media/image9.png"/><Relationship Id="rId42" Type="http://schemas.openxmlformats.org/officeDocument/2006/relationships/image" Target="../media/image13.png"/><Relationship Id="rId43" Type="http://schemas.openxmlformats.org/officeDocument/2006/relationships/image" Target="../media/image13.png"/><Relationship Id="rId44" Type="http://schemas.openxmlformats.org/officeDocument/2006/relationships/image" Target="../media/image8.png"/><Relationship Id="rId45" Type="http://schemas.openxmlformats.org/officeDocument/2006/relationships/image" Target="../media/image9.png"/><Relationship Id="rId46" Type="http://schemas.openxmlformats.org/officeDocument/2006/relationships/image" Target="../media/image13.png"/><Relationship Id="rId47" Type="http://schemas.openxmlformats.org/officeDocument/2006/relationships/image" Target="../media/image8.png"/><Relationship Id="rId48" Type="http://schemas.openxmlformats.org/officeDocument/2006/relationships/image" Target="../media/image16.png"/><Relationship Id="rId49" Type="http://schemas.openxmlformats.org/officeDocument/2006/relationships/image" Target="../media/image9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组合 1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507" name="图片 8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Box 76"/>
            <p:cNvSpPr/>
            <p:nvPr/>
          </p:nvSpPr>
          <p:spPr>
            <a:xfrm>
              <a:off x="177840" y="228600"/>
              <a:ext cx="230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新课导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09" name="文本框 2"/>
          <p:cNvSpPr/>
          <p:nvPr/>
        </p:nvSpPr>
        <p:spPr>
          <a:xfrm>
            <a:off x="285840" y="1035000"/>
            <a:ext cx="11620440" cy="2865960"/>
          </a:xfrm>
          <a:prstGeom prst="rect">
            <a:avLst/>
          </a:prstGeom>
          <a:noFill/>
          <a:ln w="2844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922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年，列宁住在莫斯科附近的一座小山上。当地有个养蜂的人，列宁常常派人去请他谈天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有一回，列宁想找那个人谈谈怎样养蜂。可是往常派去找他的人到莫斯科去了，别人都不知道他住在哪里，列宁就亲自去找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列宁一边走一边看，发现路边的花丛里有许多蜜蜂。他仔细观察口，只见那些蜜蜂采了蜜就飞进附近的一个园子，园子旁边有一所小房子。列宁走到那所房子跟前，敲了敲门，开门的果然就是养蜂的人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养蜂的人看见列宁，惊讶的说：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您好，列宁同志，是谁把您领到这儿来的？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列宁笑着说：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我有向导，是您的蜜蜂把我领到这儿来的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这个蜜蜂引路的故事中，你可以看出列宁是个什么样的人呢？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椭圆 6"/>
          <p:cNvSpPr/>
          <p:nvPr/>
        </p:nvSpPr>
        <p:spPr>
          <a:xfrm>
            <a:off x="1795320" y="3792600"/>
            <a:ext cx="8604360" cy="2417760"/>
          </a:xfrm>
          <a:prstGeom prst="ellipse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4" name="椭圆 4"/>
          <p:cNvSpPr/>
          <p:nvPr/>
        </p:nvSpPr>
        <p:spPr>
          <a:xfrm>
            <a:off x="1795320" y="985680"/>
            <a:ext cx="8604360" cy="2417760"/>
          </a:xfrm>
          <a:prstGeom prst="ellipse">
            <a:avLst/>
          </a:prstGeom>
          <a:solidFill>
            <a:srgbClr val="f7f7fb"/>
          </a:solidFill>
          <a:ln w="12600">
            <a:solidFill>
              <a:srgbClr val="d9d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5" name="Text Box 2"/>
          <p:cNvSpPr/>
          <p:nvPr/>
        </p:nvSpPr>
        <p:spPr>
          <a:xfrm>
            <a:off x="1987560" y="1533600"/>
            <a:ext cx="196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散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{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6" name="Text Box 3"/>
          <p:cNvSpPr/>
          <p:nvPr/>
        </p:nvSpPr>
        <p:spPr>
          <a:xfrm>
            <a:off x="3376440" y="1317600"/>
            <a:ext cx="60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à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散步）（散失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sǎ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散文）（松散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7" name="Text Box 4"/>
          <p:cNvSpPr/>
          <p:nvPr/>
        </p:nvSpPr>
        <p:spPr>
          <a:xfrm>
            <a:off x="1987560" y="4344120"/>
            <a:ext cx="180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看</a:t>
            </a:r>
            <a:r>
              <a:rPr b="0" i="1" lang="en-US" sz="8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{</a:t>
            </a:r>
            <a:endParaRPr b="0" i="1" lang="en-US" sz="8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58" name="Text Box 5"/>
          <p:cNvSpPr/>
          <p:nvPr/>
        </p:nvSpPr>
        <p:spPr>
          <a:xfrm>
            <a:off x="4283280" y="4124160"/>
            <a:ext cx="4797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kā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看家）（看护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kàn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(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看见）（看齐）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图片 5" descr=""/>
          <p:cNvPicPr/>
          <p:nvPr/>
        </p:nvPicPr>
        <p:blipFill>
          <a:blip r:embed="rId1"/>
          <a:srcRect l="1317" t="5242" r="1308" b="5869"/>
          <a:stretch/>
        </p:blipFill>
        <p:spPr>
          <a:xfrm>
            <a:off x="1440" y="-4680"/>
            <a:ext cx="12190680" cy="6869160"/>
          </a:xfrm>
          <a:prstGeom prst="rect">
            <a:avLst/>
          </a:prstGeom>
          <a:ln w="0">
            <a:noFill/>
          </a:ln>
        </p:spPr>
      </p:pic>
      <p:sp>
        <p:nvSpPr>
          <p:cNvPr id="660" name="文本框 32"/>
          <p:cNvSpPr/>
          <p:nvPr/>
        </p:nvSpPr>
        <p:spPr>
          <a:xfrm>
            <a:off x="1415880" y="1279440"/>
            <a:ext cx="936180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本文按照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顺序，以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为线索，讲述了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、    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和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之间的故事。故事体现了列宁对动物的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和对小男孩的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以及男孩的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1" name="文本框 1"/>
          <p:cNvSpPr/>
          <p:nvPr/>
        </p:nvSpPr>
        <p:spPr>
          <a:xfrm>
            <a:off x="5807880" y="14986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事情的发展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2" name="文本框 2"/>
          <p:cNvSpPr/>
          <p:nvPr/>
        </p:nvSpPr>
        <p:spPr>
          <a:xfrm>
            <a:off x="2015280" y="2433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三只灰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3" name="文本框 3"/>
          <p:cNvSpPr/>
          <p:nvPr/>
        </p:nvSpPr>
        <p:spPr>
          <a:xfrm>
            <a:off x="8468280" y="2433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列宁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4" name="文本框 4"/>
          <p:cNvSpPr/>
          <p:nvPr/>
        </p:nvSpPr>
        <p:spPr>
          <a:xfrm>
            <a:off x="2135520" y="33717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灰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5" name="文本框 6"/>
          <p:cNvSpPr/>
          <p:nvPr/>
        </p:nvSpPr>
        <p:spPr>
          <a:xfrm>
            <a:off x="4435920" y="3371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小男孩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6" name="文本框 7"/>
          <p:cNvSpPr/>
          <p:nvPr/>
        </p:nvSpPr>
        <p:spPr>
          <a:xfrm>
            <a:off x="6680520" y="4321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爱护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7" name="文本框 8"/>
          <p:cNvSpPr/>
          <p:nvPr/>
        </p:nvSpPr>
        <p:spPr>
          <a:xfrm>
            <a:off x="2694600" y="5226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关爱尊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68" name="文本框 9"/>
          <p:cNvSpPr/>
          <p:nvPr/>
        </p:nvSpPr>
        <p:spPr>
          <a:xfrm>
            <a:off x="8322120" y="5257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楷体"/>
                <a:ea typeface="楷体"/>
              </a:rPr>
              <a:t>诚实可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69" name="组合 10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670" name="图片 11" descr="PPT图标青色"/>
            <p:cNvPicPr/>
            <p:nvPr/>
          </p:nvPicPr>
          <p:blipFill>
            <a:blip r:embed="rId2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1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整体感知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9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6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文本框 1"/>
          <p:cNvSpPr/>
          <p:nvPr/>
        </p:nvSpPr>
        <p:spPr>
          <a:xfrm>
            <a:off x="203040" y="1095480"/>
            <a:ext cx="11785680" cy="83124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公园里有一棵高大的白桦树，树上有三只</a:t>
            </a:r>
            <a:r>
              <a:rPr b="0" i="1" lang="zh-CN" sz="4400" spc="-1" strike="noStrike" u="sng">
                <a:solidFill>
                  <a:srgbClr val="565476"/>
                </a:solidFill>
                <a:uFillTx/>
                <a:latin typeface="楷体"/>
                <a:ea typeface="楷体"/>
              </a:rPr>
              <a:t>灰雀</a:t>
            </a:r>
            <a:r>
              <a:rPr b="0" i="1" lang="zh-CN" sz="40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：两只胸脯是粉红的，一只胸脯是深红的。它们在树枝间来回跳动，婉转地歌唱，非常</a:t>
            </a:r>
            <a:r>
              <a:rPr b="0" i="1" lang="zh-CN" sz="4400" spc="-1" strike="noStrike" u="sng">
                <a:solidFill>
                  <a:srgbClr val="0000f0"/>
                </a:solidFill>
                <a:uFillTx/>
                <a:latin typeface="楷体"/>
                <a:ea typeface="楷体"/>
              </a:rPr>
              <a:t>惹</a:t>
            </a:r>
            <a:r>
              <a:rPr b="0" i="1" lang="zh-CN" sz="40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人喜爱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直接连接符 6"/>
          <p:cNvSpPr/>
          <p:nvPr/>
        </p:nvSpPr>
        <p:spPr>
          <a:xfrm flipV="1">
            <a:off x="203040" y="2492280"/>
            <a:ext cx="8772840" cy="31680"/>
          </a:xfrm>
          <a:prstGeom prst="line">
            <a:avLst/>
          </a:prstGeom>
          <a:ln w="47520">
            <a:solidFill>
              <a:srgbClr val="496d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直接连接符 9"/>
          <p:cNvSpPr/>
          <p:nvPr/>
        </p:nvSpPr>
        <p:spPr>
          <a:xfrm>
            <a:off x="9347040" y="2523960"/>
            <a:ext cx="2295720" cy="32040"/>
          </a:xfrm>
          <a:prstGeom prst="line">
            <a:avLst/>
          </a:prstGeom>
          <a:ln w="47520">
            <a:solidFill>
              <a:srgbClr val="496d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5" name="直接连接符 2"/>
          <p:cNvSpPr/>
          <p:nvPr/>
        </p:nvSpPr>
        <p:spPr>
          <a:xfrm flipV="1">
            <a:off x="203040" y="3212640"/>
            <a:ext cx="9925200" cy="19080"/>
          </a:xfrm>
          <a:prstGeom prst="line">
            <a:avLst/>
          </a:prstGeom>
          <a:ln w="47520">
            <a:solidFill>
              <a:srgbClr val="496d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76" name="组合 4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677" name="图片 10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课文解读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9" name="文本框 5"/>
          <p:cNvSpPr/>
          <p:nvPr/>
        </p:nvSpPr>
        <p:spPr>
          <a:xfrm>
            <a:off x="2656800" y="3919680"/>
            <a:ext cx="59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谁能说说课文中介绍的灰雀是什么样子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文本框 7"/>
          <p:cNvSpPr/>
          <p:nvPr/>
        </p:nvSpPr>
        <p:spPr>
          <a:xfrm>
            <a:off x="2349360" y="4930920"/>
            <a:ext cx="505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课文是怎样直接写出灰雀的可爱的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3"/>
          <p:cNvSpPr/>
          <p:nvPr/>
        </p:nvSpPr>
        <p:spPr>
          <a:xfrm>
            <a:off x="449280" y="469800"/>
            <a:ext cx="8381880" cy="82512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列宁每次走到白桦树下，都要停下来，仰望这三只欢快的灰雀，还经常给他们带来面包渣和谷粒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2" name="圆角矩形标注 4"/>
          <p:cNvSpPr/>
          <p:nvPr/>
        </p:nvSpPr>
        <p:spPr>
          <a:xfrm>
            <a:off x="5925960" y="3286080"/>
            <a:ext cx="5712120" cy="1014480"/>
          </a:xfrm>
          <a:prstGeom prst="wedgeRoundRectCallout">
            <a:avLst>
              <a:gd name="adj1" fmla="val -34532"/>
              <a:gd name="adj2" fmla="val -95615"/>
              <a:gd name="adj3" fmla="val 16667"/>
            </a:avLst>
          </a:prstGeom>
          <a:solidFill>
            <a:srgbClr val="8fcb75">
              <a:alpha val="50000"/>
            </a:srgbClr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这句话可以看出什么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文本框 7"/>
          <p:cNvSpPr/>
          <p:nvPr/>
        </p:nvSpPr>
        <p:spPr>
          <a:xfrm>
            <a:off x="449280" y="4640400"/>
            <a:ext cx="1092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“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每次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”“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都要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”“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经常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”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这些词体现了列宁对灰雀的喜爱，为后面列宁到处找灰雀做铺垫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文本框 1"/>
          <p:cNvSpPr/>
          <p:nvPr/>
        </p:nvSpPr>
        <p:spPr>
          <a:xfrm>
            <a:off x="584280" y="1236600"/>
            <a:ext cx="11021760" cy="82512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4a452a"/>
                </a:solidFill>
                <a:uFillTx/>
                <a:latin typeface="楷体"/>
                <a:ea typeface="楷体"/>
              </a:rPr>
              <a:t>一天，列宁又来到公园，走到白桦树下，发现那只胸脯深红的灰雀不见了。他在周围的树林中找遍了，也没有找到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5" name="直接连接符 6"/>
          <p:cNvSpPr/>
          <p:nvPr/>
        </p:nvSpPr>
        <p:spPr>
          <a:xfrm>
            <a:off x="7896240" y="2708280"/>
            <a:ext cx="3581280" cy="34920"/>
          </a:xfrm>
          <a:prstGeom prst="line">
            <a:avLst/>
          </a:prstGeom>
          <a:ln w="47520">
            <a:solidFill>
              <a:srgbClr val="496d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6" name="直接连接符 9"/>
          <p:cNvSpPr/>
          <p:nvPr/>
        </p:nvSpPr>
        <p:spPr>
          <a:xfrm>
            <a:off x="700200" y="3408480"/>
            <a:ext cx="5251320" cy="20520"/>
          </a:xfrm>
          <a:prstGeom prst="line">
            <a:avLst/>
          </a:prstGeom>
          <a:ln w="47520">
            <a:solidFill>
              <a:srgbClr val="496d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7" name="圆角矩形标注 2"/>
          <p:cNvSpPr/>
          <p:nvPr/>
        </p:nvSpPr>
        <p:spPr>
          <a:xfrm>
            <a:off x="7107120" y="3921120"/>
            <a:ext cx="4892760" cy="1509840"/>
          </a:xfrm>
          <a:prstGeom prst="wedgeRoundRectCallout">
            <a:avLst>
              <a:gd name="adj1" fmla="val -42356"/>
              <a:gd name="adj2" fmla="val -79856"/>
              <a:gd name="adj3" fmla="val 16667"/>
            </a:avLst>
          </a:prstGeom>
          <a:solidFill>
            <a:srgbClr val="8fcb75">
              <a:alpha val="50000"/>
            </a:srgbClr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请你找出句子中最能表现列宁对灰雀的担心的地方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8" name="文本框 7"/>
          <p:cNvSpPr/>
          <p:nvPr/>
        </p:nvSpPr>
        <p:spPr>
          <a:xfrm>
            <a:off x="487440" y="3921120"/>
            <a:ext cx="64339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“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找遍</a:t>
            </a: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黑体"/>
              </a:rPr>
              <a:t>”</a:t>
            </a: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现出列宁对失踪的灰雀的担心和他心中的着急。要读出着急的语气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1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500"/>
                            </p:stCondLst>
                            <p:childTnLst>
                              <p:par>
                                <p:cTn id="8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横卷形 1"/>
          <p:cNvSpPr/>
          <p:nvPr/>
        </p:nvSpPr>
        <p:spPr>
          <a:xfrm>
            <a:off x="1181160" y="1042920"/>
            <a:ext cx="9434520" cy="5473800"/>
          </a:xfrm>
          <a:prstGeom prst="horizontalScroll">
            <a:avLst>
              <a:gd name="adj" fmla="val 12500"/>
            </a:avLst>
          </a:prstGeom>
          <a:solidFill>
            <a:srgbClr val="f7f7fb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文本框 4"/>
          <p:cNvSpPr/>
          <p:nvPr/>
        </p:nvSpPr>
        <p:spPr>
          <a:xfrm>
            <a:off x="2400480" y="1989000"/>
            <a:ext cx="7697520" cy="23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深红色胸脯的灰雀为什么不见了？它去哪里了呢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组合 14"/>
          <p:cNvGrpSpPr/>
          <p:nvPr/>
        </p:nvGrpSpPr>
        <p:grpSpPr>
          <a:xfrm>
            <a:off x="69840" y="247680"/>
            <a:ext cx="10771200" cy="1452600"/>
            <a:chOff x="69840" y="247680"/>
            <a:chExt cx="10771200" cy="1452600"/>
          </a:xfrm>
        </p:grpSpPr>
        <p:pic>
          <p:nvPicPr>
            <p:cNvPr id="692" name="图片 2" descr="图片2"/>
            <p:cNvPicPr/>
            <p:nvPr/>
          </p:nvPicPr>
          <p:blipFill>
            <a:blip r:embed="rId1"/>
            <a:stretch/>
          </p:blipFill>
          <p:spPr>
            <a:xfrm>
              <a:off x="69840" y="247680"/>
              <a:ext cx="180072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流程图: 过程 5"/>
            <p:cNvSpPr/>
            <p:nvPr/>
          </p:nvSpPr>
          <p:spPr>
            <a:xfrm>
              <a:off x="1761120" y="559800"/>
              <a:ext cx="9079920" cy="114048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4" name="文本框 4"/>
            <p:cNvSpPr/>
            <p:nvPr/>
          </p:nvSpPr>
          <p:spPr>
            <a:xfrm>
              <a:off x="5553360" y="869040"/>
              <a:ext cx="117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zh-CN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孩子，你看见过一只深红色胸脯的灰雀吗？</a:t>
              </a: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”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95" name="组合 15"/>
          <p:cNvGrpSpPr/>
          <p:nvPr/>
        </p:nvGrpSpPr>
        <p:grpSpPr>
          <a:xfrm>
            <a:off x="1871640" y="2050920"/>
            <a:ext cx="6226200" cy="1562400"/>
            <a:chOff x="1871640" y="2050920"/>
            <a:chExt cx="6226200" cy="1562400"/>
          </a:xfrm>
        </p:grpSpPr>
        <p:pic>
          <p:nvPicPr>
            <p:cNvPr id="696" name="图片 6" descr="图片1"/>
            <p:cNvPicPr/>
            <p:nvPr/>
          </p:nvPicPr>
          <p:blipFill>
            <a:blip r:embed="rId2"/>
            <a:stretch/>
          </p:blipFill>
          <p:spPr>
            <a:xfrm flipH="1">
              <a:off x="6503760" y="2050920"/>
              <a:ext cx="1594080" cy="144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矩形 7"/>
            <p:cNvSpPr/>
            <p:nvPr/>
          </p:nvSpPr>
          <p:spPr>
            <a:xfrm>
              <a:off x="1871640" y="2472120"/>
              <a:ext cx="4693680" cy="1141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98" name="文本框 8"/>
            <p:cNvSpPr/>
            <p:nvPr/>
          </p:nvSpPr>
          <p:spPr>
            <a:xfrm>
              <a:off x="2414880" y="2781720"/>
              <a:ext cx="470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没</a:t>
              </a:r>
              <a:r>
                <a:rPr b="0" i="1" lang="en-US" sz="3200" spc="-1" strike="noStrike" u="sng">
                  <a:solidFill>
                    <a:srgbClr val="ff0000"/>
                  </a:solidFill>
                  <a:uFillTx/>
                  <a:latin typeface="楷体"/>
                  <a:ea typeface="楷体"/>
                </a:rPr>
                <a:t>……</a:t>
              </a: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我没看见。”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99" name="组合 16"/>
          <p:cNvGrpSpPr/>
          <p:nvPr/>
        </p:nvGrpSpPr>
        <p:grpSpPr>
          <a:xfrm>
            <a:off x="-39600" y="4456080"/>
            <a:ext cx="11677680" cy="1538280"/>
            <a:chOff x="-39600" y="4456080"/>
            <a:chExt cx="11677680" cy="1538280"/>
          </a:xfrm>
        </p:grpSpPr>
        <p:sp>
          <p:nvSpPr>
            <p:cNvPr id="700" name="矩形 11"/>
            <p:cNvSpPr/>
            <p:nvPr/>
          </p:nvSpPr>
          <p:spPr>
            <a:xfrm>
              <a:off x="1654200" y="4456080"/>
              <a:ext cx="9983880" cy="136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701" name="图片 10" descr="图片2"/>
            <p:cNvPicPr/>
            <p:nvPr/>
          </p:nvPicPr>
          <p:blipFill>
            <a:blip r:embed="rId3"/>
            <a:stretch/>
          </p:blipFill>
          <p:spPr>
            <a:xfrm>
              <a:off x="-39600" y="4541040"/>
              <a:ext cx="1801080" cy="145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文本框 9"/>
            <p:cNvSpPr/>
            <p:nvPr/>
          </p:nvSpPr>
          <p:spPr>
            <a:xfrm>
              <a:off x="5661720" y="4877640"/>
              <a:ext cx="196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en-US" sz="32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一定是飞走了或者是冻死了。天气严寒，它怕冷。”</a:t>
              </a:r>
              <a:endParaRPr b="0" i="1" lang="en-US" sz="32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3" name="组合 19"/>
          <p:cNvGrpSpPr/>
          <p:nvPr/>
        </p:nvGrpSpPr>
        <p:grpSpPr>
          <a:xfrm>
            <a:off x="8223120" y="1390680"/>
            <a:ext cx="4011840" cy="2814480"/>
            <a:chOff x="8223120" y="1390680"/>
            <a:chExt cx="4011840" cy="2814480"/>
          </a:xfrm>
        </p:grpSpPr>
        <p:sp>
          <p:nvSpPr>
            <p:cNvPr id="704" name="云形标注 17"/>
            <p:cNvSpPr/>
            <p:nvPr/>
          </p:nvSpPr>
          <p:spPr>
            <a:xfrm>
              <a:off x="8223120" y="1390680"/>
              <a:ext cx="4011840" cy="2814480"/>
            </a:xfrm>
            <a:prstGeom prst="cloudCallout">
              <a:avLst>
                <a:gd name="adj1" fmla="val -83175"/>
                <a:gd name="adj2" fmla="val 33620"/>
              </a:avLst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5" name="文本框 18"/>
            <p:cNvSpPr/>
            <p:nvPr/>
          </p:nvSpPr>
          <p:spPr>
            <a:xfrm>
              <a:off x="8973360" y="2050920"/>
              <a:ext cx="3030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……”</a:t>
              </a: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为什么要在这里标注省略号呢？说明了什么。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6" name="组合 22"/>
          <p:cNvGrpSpPr/>
          <p:nvPr/>
        </p:nvGrpSpPr>
        <p:grpSpPr>
          <a:xfrm>
            <a:off x="8223120" y="1390680"/>
            <a:ext cx="4011840" cy="2814480"/>
            <a:chOff x="8223120" y="1390680"/>
            <a:chExt cx="4011840" cy="2814480"/>
          </a:xfrm>
        </p:grpSpPr>
        <p:sp>
          <p:nvSpPr>
            <p:cNvPr id="707" name="云形标注 20"/>
            <p:cNvSpPr/>
            <p:nvPr/>
          </p:nvSpPr>
          <p:spPr>
            <a:xfrm>
              <a:off x="8223120" y="1390680"/>
              <a:ext cx="4011840" cy="2814480"/>
            </a:xfrm>
            <a:prstGeom prst="cloudCallout">
              <a:avLst>
                <a:gd name="adj1" fmla="val -83157"/>
                <a:gd name="adj2" fmla="val 33078"/>
              </a:avLst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8" name="文本框 21"/>
            <p:cNvSpPr/>
            <p:nvPr/>
          </p:nvSpPr>
          <p:spPr>
            <a:xfrm>
              <a:off x="8836560" y="1677600"/>
              <a:ext cx="280044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-1" strike="noStrike" u="sng">
                  <a:solidFill>
                    <a:srgbClr val="7f7f7f"/>
                  </a:solidFill>
                  <a:uFillTx/>
                  <a:latin typeface="Arial"/>
                  <a:ea typeface="宋体"/>
                </a:rPr>
                <a:t>省略号表现男孩回答问题时回答吱吱呜呜，说明男孩做错事，心虚的表现。</a:t>
              </a: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4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10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文本框 3"/>
          <p:cNvSpPr/>
          <p:nvPr/>
        </p:nvSpPr>
        <p:spPr>
          <a:xfrm>
            <a:off x="385920" y="581040"/>
            <a:ext cx="8573760" cy="82512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男孩说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:“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没……我没看见。”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0" name="圆角矩形标注 4"/>
          <p:cNvSpPr/>
          <p:nvPr/>
        </p:nvSpPr>
        <p:spPr>
          <a:xfrm>
            <a:off x="7709040" y="1859040"/>
            <a:ext cx="4233600" cy="1892160"/>
          </a:xfrm>
          <a:prstGeom prst="wedgeRoundRectCallout">
            <a:avLst>
              <a:gd name="adj1" fmla="val -33018"/>
              <a:gd name="adj2" fmla="val -65810"/>
              <a:gd name="adj3" fmla="val 16667"/>
            </a:avLst>
          </a:prstGeom>
          <a:solidFill>
            <a:srgbClr val="aed994"/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从这一句，你可以看出什么？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1" name="文本框 5"/>
          <p:cNvSpPr/>
          <p:nvPr/>
        </p:nvSpPr>
        <p:spPr>
          <a:xfrm>
            <a:off x="884160" y="2646360"/>
            <a:ext cx="599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面对陌生人的询问，男孩一脸心虚，他的回答吱吱呜呜，显然是偷偷做了坏事害怕被人揭穿时的表现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文本框 3"/>
          <p:cNvSpPr/>
          <p:nvPr/>
        </p:nvSpPr>
        <p:spPr>
          <a:xfrm>
            <a:off x="703440" y="314280"/>
            <a:ext cx="8108640" cy="89820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那个男孩本来想告诉列宁灰雀没有死，但又不敢讲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3" name="圆角矩形标注 4"/>
          <p:cNvSpPr/>
          <p:nvPr/>
        </p:nvSpPr>
        <p:spPr>
          <a:xfrm>
            <a:off x="8013600" y="2152800"/>
            <a:ext cx="3649680" cy="2234880"/>
          </a:xfrm>
          <a:prstGeom prst="wedgeRoundRectCallout">
            <a:avLst>
              <a:gd name="adj1" fmla="val -36203"/>
              <a:gd name="adj2" fmla="val -70518"/>
              <a:gd name="adj3" fmla="val 16667"/>
            </a:avLst>
          </a:prstGeom>
          <a:solidFill>
            <a:srgbClr val="b0da9c"/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从这里你可以看出什么？为什么男孩</a:t>
            </a:r>
            <a:r>
              <a:rPr b="0" i="1" lang="en-US" sz="36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不敢讲</a:t>
            </a:r>
            <a:r>
              <a:rPr b="0" i="1" lang="en-US" sz="36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Arial"/>
                <a:ea typeface="宋体"/>
              </a:rPr>
              <a:t>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4" name="文本框 5"/>
          <p:cNvSpPr/>
          <p:nvPr/>
        </p:nvSpPr>
        <p:spPr>
          <a:xfrm>
            <a:off x="703440" y="2692440"/>
            <a:ext cx="67960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男孩只是因为太喜欢那只灰雀所以才萌生了抓住灰雀的念头，看到列宁对灰雀的关心才意识到这种行为是一种自私的表现。他已经意识到自己的错误，只是怕被批评，不敢讲出来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2" descr=""/>
          <p:cNvPicPr/>
          <p:nvPr/>
        </p:nvPicPr>
        <p:blipFill>
          <a:blip r:embed="rId1"/>
          <a:stretch/>
        </p:blipFill>
        <p:spPr>
          <a:xfrm>
            <a:off x="677880" y="262080"/>
            <a:ext cx="4152960" cy="6333840"/>
          </a:xfrm>
          <a:prstGeom prst="rect">
            <a:avLst/>
          </a:prstGeom>
          <a:ln w="0">
            <a:noFill/>
          </a:ln>
        </p:spPr>
      </p:pic>
      <p:sp>
        <p:nvSpPr>
          <p:cNvPr id="511" name="文本框 3"/>
          <p:cNvSpPr/>
          <p:nvPr/>
        </p:nvSpPr>
        <p:spPr>
          <a:xfrm>
            <a:off x="5302080" y="1158840"/>
            <a:ext cx="66596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从故事中可以看出列宁是一位观察仔细，喜爱小动物的人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2" name="文本框 4"/>
          <p:cNvSpPr/>
          <p:nvPr/>
        </p:nvSpPr>
        <p:spPr>
          <a:xfrm>
            <a:off x="5372280" y="2998800"/>
            <a:ext cx="6519600" cy="1044360"/>
          </a:xfrm>
          <a:prstGeom prst="rect">
            <a:avLst/>
          </a:prstGeom>
          <a:solidFill>
            <a:srgbClr val="cccccc">
              <a:alpha val="50000"/>
            </a:srgbClr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今天，让我们一起学习一篇列宁和灰雀的故事吧！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组合 17"/>
          <p:cNvGrpSpPr/>
          <p:nvPr/>
        </p:nvGrpSpPr>
        <p:grpSpPr>
          <a:xfrm>
            <a:off x="69840" y="93600"/>
            <a:ext cx="9009000" cy="1452600"/>
            <a:chOff x="69840" y="93600"/>
            <a:chExt cx="9009000" cy="1452600"/>
          </a:xfrm>
        </p:grpSpPr>
        <p:pic>
          <p:nvPicPr>
            <p:cNvPr id="716" name="图片 2" descr="图片2"/>
            <p:cNvPicPr/>
            <p:nvPr/>
          </p:nvPicPr>
          <p:blipFill>
            <a:blip r:embed="rId1"/>
            <a:stretch/>
          </p:blipFill>
          <p:spPr>
            <a:xfrm>
              <a:off x="69840" y="93600"/>
              <a:ext cx="1800720" cy="14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矩形 5"/>
            <p:cNvSpPr/>
            <p:nvPr/>
          </p:nvSpPr>
          <p:spPr>
            <a:xfrm>
              <a:off x="1761480" y="466200"/>
              <a:ext cx="7317360" cy="957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8" name="文本框 4"/>
            <p:cNvSpPr/>
            <p:nvPr/>
          </p:nvSpPr>
          <p:spPr>
            <a:xfrm>
              <a:off x="4815720" y="684000"/>
              <a:ext cx="8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多好的灰雀呀，可惜再也飞不回来了。</a:t>
              </a: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”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9" name="组合 18"/>
          <p:cNvGrpSpPr/>
          <p:nvPr/>
        </p:nvGrpSpPr>
        <p:grpSpPr>
          <a:xfrm>
            <a:off x="2144880" y="1979640"/>
            <a:ext cx="9481320" cy="1447920"/>
            <a:chOff x="2144880" y="1979640"/>
            <a:chExt cx="9481320" cy="1447920"/>
          </a:xfrm>
        </p:grpSpPr>
        <p:pic>
          <p:nvPicPr>
            <p:cNvPr id="720" name="图片 6" descr="图片1"/>
            <p:cNvPicPr/>
            <p:nvPr/>
          </p:nvPicPr>
          <p:blipFill>
            <a:blip r:embed="rId2"/>
            <a:stretch/>
          </p:blipFill>
          <p:spPr>
            <a:xfrm flipH="1">
              <a:off x="9923760" y="1979640"/>
              <a:ext cx="170244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矩形 7"/>
            <p:cNvSpPr/>
            <p:nvPr/>
          </p:nvSpPr>
          <p:spPr>
            <a:xfrm>
              <a:off x="2145600" y="2125440"/>
              <a:ext cx="7778520" cy="97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2" name="文本框 8"/>
            <p:cNvSpPr/>
            <p:nvPr/>
          </p:nvSpPr>
          <p:spPr>
            <a:xfrm>
              <a:off x="2144880" y="2351520"/>
              <a:ext cx="79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会飞回来的，一定会飞回来的。它还活着。</a:t>
              </a: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”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23" name="文本框 1"/>
          <p:cNvSpPr/>
          <p:nvPr/>
        </p:nvSpPr>
        <p:spPr>
          <a:xfrm>
            <a:off x="195120" y="1590840"/>
            <a:ext cx="15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自言自语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24" name="组合 19"/>
          <p:cNvGrpSpPr/>
          <p:nvPr/>
        </p:nvGrpSpPr>
        <p:grpSpPr>
          <a:xfrm>
            <a:off x="69840" y="3710160"/>
            <a:ext cx="5200560" cy="1452240"/>
            <a:chOff x="69840" y="3710160"/>
            <a:chExt cx="5200560" cy="1452240"/>
          </a:xfrm>
        </p:grpSpPr>
        <p:sp>
          <p:nvSpPr>
            <p:cNvPr id="725" name="矩形 11"/>
            <p:cNvSpPr/>
            <p:nvPr/>
          </p:nvSpPr>
          <p:spPr>
            <a:xfrm>
              <a:off x="1870920" y="3964680"/>
              <a:ext cx="3399480" cy="943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726" name="图片 10" descr="图片2"/>
            <p:cNvPicPr/>
            <p:nvPr/>
          </p:nvPicPr>
          <p:blipFill>
            <a:blip r:embed="rId3"/>
            <a:stretch/>
          </p:blipFill>
          <p:spPr>
            <a:xfrm>
              <a:off x="69840" y="3710160"/>
              <a:ext cx="1801080" cy="145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文本框 9"/>
            <p:cNvSpPr/>
            <p:nvPr/>
          </p:nvSpPr>
          <p:spPr>
            <a:xfrm>
              <a:off x="2606400" y="4175280"/>
              <a:ext cx="175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会飞回来？</a:t>
              </a:r>
              <a:r>
                <a:rPr b="0" i="1" lang="en-US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”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28" name="组合 20"/>
          <p:cNvGrpSpPr/>
          <p:nvPr/>
        </p:nvGrpSpPr>
        <p:grpSpPr>
          <a:xfrm>
            <a:off x="6380280" y="4402080"/>
            <a:ext cx="5164200" cy="1552680"/>
            <a:chOff x="6380280" y="4402080"/>
            <a:chExt cx="5164200" cy="1552680"/>
          </a:xfrm>
        </p:grpSpPr>
        <p:pic>
          <p:nvPicPr>
            <p:cNvPr id="729" name="图片 3" descr="图片1"/>
            <p:cNvPicPr/>
            <p:nvPr/>
          </p:nvPicPr>
          <p:blipFill>
            <a:blip r:embed="rId4"/>
            <a:stretch/>
          </p:blipFill>
          <p:spPr>
            <a:xfrm flipH="1">
              <a:off x="9950400" y="4402080"/>
              <a:ext cx="15940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矩形 14"/>
            <p:cNvSpPr/>
            <p:nvPr/>
          </p:nvSpPr>
          <p:spPr>
            <a:xfrm>
              <a:off x="6380280" y="4589280"/>
              <a:ext cx="3398040" cy="136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7189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31" name="文本框 15"/>
            <p:cNvSpPr/>
            <p:nvPr/>
          </p:nvSpPr>
          <p:spPr>
            <a:xfrm>
              <a:off x="7666200" y="5010840"/>
              <a:ext cx="104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“</a:t>
              </a:r>
              <a:r>
                <a:rPr b="0" i="1" lang="zh-CN" sz="2800" spc="-1" strike="noStrike" u="sng">
                  <a:solidFill>
                    <a:srgbClr val="4a452a"/>
                  </a:solidFill>
                  <a:uFillTx/>
                  <a:latin typeface="楷体"/>
                  <a:ea typeface="楷体"/>
                </a:rPr>
                <a:t>一定会飞回来！”</a:t>
              </a:r>
              <a:endParaRPr b="0" i="1" lang="en-US" sz="28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32" name="文本框 16"/>
          <p:cNvSpPr/>
          <p:nvPr/>
        </p:nvSpPr>
        <p:spPr>
          <a:xfrm>
            <a:off x="7662960" y="5740560"/>
            <a:ext cx="858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肯定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5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9" dur="2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d9d8e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文本框 3"/>
          <p:cNvSpPr/>
          <p:nvPr/>
        </p:nvSpPr>
        <p:spPr>
          <a:xfrm>
            <a:off x="436680" y="216000"/>
            <a:ext cx="9609120" cy="228744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男孩看看列宁说：“会飞回来的，一定会飞回来的。它还活着。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……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“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定会飞回来的。”男孩肯定地说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4" name="文本框 4"/>
          <p:cNvSpPr/>
          <p:nvPr/>
        </p:nvSpPr>
        <p:spPr>
          <a:xfrm>
            <a:off x="1433520" y="3613320"/>
            <a:ext cx="93283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这是男孩对列宁的承诺，他已经认识到自己的错误，并决定改正错误。虽然他不敢告诉列宁，这只灰雀是自己抓的，但是在男孩的心里已经下定决心要把小鸟放回来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文本框 3"/>
          <p:cNvSpPr/>
          <p:nvPr/>
        </p:nvSpPr>
        <p:spPr>
          <a:xfrm>
            <a:off x="141120" y="277920"/>
            <a:ext cx="9026640" cy="88596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第二天，列宁来到白桦树下，果然又看到那只灰雀欢蹦乱跳地在枝头歌唱。那个男孩站在白桦树旁，低着头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6" name="圆角矩形标注 4"/>
          <p:cNvSpPr/>
          <p:nvPr/>
        </p:nvSpPr>
        <p:spPr>
          <a:xfrm>
            <a:off x="7491240" y="2562120"/>
            <a:ext cx="4606920" cy="1548000"/>
          </a:xfrm>
          <a:prstGeom prst="wedgeRoundRectCallout">
            <a:avLst>
              <a:gd name="adj1" fmla="val -30925"/>
              <a:gd name="adj2" fmla="val -59328"/>
              <a:gd name="adj3" fmla="val 16667"/>
            </a:avLst>
          </a:prstGeom>
          <a:solidFill>
            <a:srgbClr val="aad896"/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Arial"/>
              </a:rPr>
              <a:t>“</a:t>
            </a: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Arial"/>
              </a:rPr>
              <a:t>果然”说明了什么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Arial"/>
              </a:rPr>
              <a:t>小男孩为什么要低着头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7" name="文本框 5"/>
          <p:cNvSpPr/>
          <p:nvPr/>
        </p:nvSpPr>
        <p:spPr>
          <a:xfrm>
            <a:off x="357120" y="3289320"/>
            <a:ext cx="6956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果然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”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说明男孩遵守承诺，把灰雀放了回来。小男孩低着头是因为他已经认识到自己的错误，为自己的行为深深忏悔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文本框 4"/>
          <p:cNvSpPr/>
          <p:nvPr/>
        </p:nvSpPr>
        <p:spPr>
          <a:xfrm>
            <a:off x="684360" y="547560"/>
            <a:ext cx="7697520" cy="1970280"/>
          </a:xfrm>
          <a:prstGeom prst="rect">
            <a:avLst/>
          </a:prstGeom>
          <a:solidFill>
            <a:srgbClr val="ccccc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深红色胸脯的灰雀为什么不见了？它去哪里了呢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9" name="文本框 5"/>
          <p:cNvSpPr/>
          <p:nvPr/>
        </p:nvSpPr>
        <p:spPr>
          <a:xfrm>
            <a:off x="2089080" y="3151080"/>
            <a:ext cx="6666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深红色胸脯的灰雀被小男孩抓走了，但是小男孩知道自己的错误之后，及时把它送回来了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6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-17640" y="-69840"/>
            <a:ext cx="12209760" cy="6853320"/>
          </a:xfrm>
          <a:prstGeom prst="rect">
            <a:avLst/>
          </a:prstGeom>
          <a:ln w="0">
            <a:noFill/>
          </a:ln>
        </p:spPr>
      </p:pic>
      <p:sp>
        <p:nvSpPr>
          <p:cNvPr id="741" name="AutoShape 3"/>
          <p:cNvSpPr/>
          <p:nvPr/>
        </p:nvSpPr>
        <p:spPr>
          <a:xfrm>
            <a:off x="1886040" y="147600"/>
            <a:ext cx="4411440" cy="1703520"/>
          </a:xfrm>
          <a:prstGeom prst="wedgeRoundRectCallout">
            <a:avLst>
              <a:gd name="adj1" fmla="val -1712"/>
              <a:gd name="adj2" fmla="val 62486"/>
              <a:gd name="adj3" fmla="val 16667"/>
            </a:avLst>
          </a:prstGeom>
          <a:solidFill>
            <a:srgbClr val="009ade">
              <a:alpha val="9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文本框 1"/>
          <p:cNvSpPr/>
          <p:nvPr/>
        </p:nvSpPr>
        <p:spPr>
          <a:xfrm>
            <a:off x="1943280" y="277920"/>
            <a:ext cx="4298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dce6f2"/>
                </a:solidFill>
                <a:uFillTx/>
                <a:latin typeface="Times New Roman"/>
                <a:ea typeface="楷体_GB2312"/>
              </a:rPr>
              <a:t>你好！灰雀，昨天你到哪儿去了？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横卷形 1"/>
          <p:cNvSpPr/>
          <p:nvPr/>
        </p:nvSpPr>
        <p:spPr>
          <a:xfrm>
            <a:off x="2038320" y="1717560"/>
            <a:ext cx="8116920" cy="4216680"/>
          </a:xfrm>
          <a:prstGeom prst="horizontalScroll">
            <a:avLst>
              <a:gd name="adj" fmla="val 12500"/>
            </a:avLst>
          </a:prstGeom>
          <a:solidFill>
            <a:srgbClr val="f7f7fb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文本框 4"/>
          <p:cNvSpPr/>
          <p:nvPr/>
        </p:nvSpPr>
        <p:spPr>
          <a:xfrm>
            <a:off x="2973240" y="2700360"/>
            <a:ext cx="6486840" cy="22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列宁为什么不问男孩却问灰雀呢？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文本框 3"/>
          <p:cNvSpPr/>
          <p:nvPr/>
        </p:nvSpPr>
        <p:spPr>
          <a:xfrm>
            <a:off x="357120" y="217440"/>
            <a:ext cx="9821880" cy="167796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列宁看看男孩，又看看灰雀，微笑着说：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你好！灰雀，昨天你到哪儿去了？</a:t>
            </a: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圆角矩形标注 4"/>
          <p:cNvSpPr/>
          <p:nvPr/>
        </p:nvSpPr>
        <p:spPr>
          <a:xfrm>
            <a:off x="7313760" y="2162160"/>
            <a:ext cx="4692600" cy="2054160"/>
          </a:xfrm>
          <a:prstGeom prst="wedgeRoundRectCallout">
            <a:avLst>
              <a:gd name="adj1" fmla="val -30925"/>
              <a:gd name="adj2" fmla="val -59328"/>
              <a:gd name="adj3" fmla="val 16667"/>
            </a:avLst>
          </a:prstGeom>
          <a:solidFill>
            <a:srgbClr val="aad896"/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列宁为什么会</a:t>
            </a:r>
            <a:r>
              <a:rPr b="0" i="1" lang="en-US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微笑</a:t>
            </a:r>
            <a:r>
              <a:rPr b="0" i="1" lang="en-US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他为什么不直接问小男孩呢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文本框 5"/>
          <p:cNvSpPr/>
          <p:nvPr/>
        </p:nvSpPr>
        <p:spPr>
          <a:xfrm>
            <a:off x="647640" y="3473280"/>
            <a:ext cx="6666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列宁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“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微笑</a:t>
            </a: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”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是为小男孩诚实，知错就改感到高兴。他不直接问小男孩是为了保护小男孩的自尊心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文本框 3"/>
          <p:cNvSpPr/>
          <p:nvPr/>
        </p:nvSpPr>
        <p:spPr>
          <a:xfrm>
            <a:off x="357120" y="217440"/>
            <a:ext cx="9821880" cy="885960"/>
          </a:xfrm>
          <a:prstGeom prst="rect">
            <a:avLst/>
          </a:prstGeom>
          <a:solidFill>
            <a:srgbClr val="d6f5f8">
              <a:alpha val="50000"/>
            </a:srgbClr>
          </a:solidFill>
          <a:ln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列宁也没再问那个男孩，因为他已经知道，男孩是诚实的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圆角矩形标注 4"/>
          <p:cNvSpPr/>
          <p:nvPr/>
        </p:nvSpPr>
        <p:spPr>
          <a:xfrm>
            <a:off x="7313760" y="2162160"/>
            <a:ext cx="4692600" cy="2054160"/>
          </a:xfrm>
          <a:prstGeom prst="wedgeRoundRectCallout">
            <a:avLst>
              <a:gd name="adj1" fmla="val -30925"/>
              <a:gd name="adj2" fmla="val -59328"/>
              <a:gd name="adj3" fmla="val 16667"/>
            </a:avLst>
          </a:prstGeom>
          <a:solidFill>
            <a:srgbClr val="aad896"/>
          </a:solidFill>
          <a:ln w="12600">
            <a:solidFill>
              <a:srgbClr val="9bd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202020"/>
                </a:solidFill>
                <a:uFillTx/>
                <a:latin typeface="楷体"/>
                <a:ea typeface="楷体"/>
              </a:rPr>
              <a:t>男孩明明说了谎，为什么列宁认为男孩是诚实的呢？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文本框 5"/>
          <p:cNvSpPr/>
          <p:nvPr/>
        </p:nvSpPr>
        <p:spPr>
          <a:xfrm>
            <a:off x="647640" y="3657600"/>
            <a:ext cx="666612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因为小男孩遵守诺言，把灰雀送回来了，小男孩知错能改，这是值得肯定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79" dur="indefinite" restart="never" nodeType="tmRoot">
          <p:childTnLst>
            <p:seq>
              <p:cTn id="1080" dur="indefinite" nodeType="mainSeq">
                <p:childTnLst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组合 2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752" name="图片 10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TextBox 76"/>
            <p:cNvSpPr/>
            <p:nvPr/>
          </p:nvSpPr>
          <p:spPr>
            <a:xfrm>
              <a:off x="177840" y="228600"/>
              <a:ext cx="230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结构梳理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54" name="文本框 1"/>
          <p:cNvSpPr/>
          <p:nvPr/>
        </p:nvSpPr>
        <p:spPr>
          <a:xfrm>
            <a:off x="3576600" y="4487760"/>
            <a:ext cx="2322720" cy="13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列宁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（善解人意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5" name="文本框 5"/>
          <p:cNvSpPr/>
          <p:nvPr/>
        </p:nvSpPr>
        <p:spPr>
          <a:xfrm>
            <a:off x="8713800" y="4487760"/>
            <a:ext cx="18162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男孩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（诚实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6" name="文本框 6"/>
          <p:cNvSpPr/>
          <p:nvPr/>
        </p:nvSpPr>
        <p:spPr>
          <a:xfrm>
            <a:off x="6119640" y="982800"/>
            <a:ext cx="237492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灰雀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（惹人喜爱）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cxnSp>
        <p:nvCxnSpPr>
          <p:cNvPr id="757" name="直接箭头连接符 8"/>
          <p:cNvCxnSpPr/>
          <p:nvPr/>
        </p:nvCxnSpPr>
        <p:spPr>
          <a:xfrm flipV="1">
            <a:off x="4432320" y="2491920"/>
            <a:ext cx="2022840" cy="2007360"/>
          </a:xfrm>
          <a:prstGeom prst="straightConnector1">
            <a:avLst/>
          </a:prstGeom>
          <a:ln w="284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58" name="直接箭头连接符 9"/>
          <p:cNvCxnSpPr/>
          <p:nvPr/>
        </p:nvCxnSpPr>
        <p:spPr>
          <a:xfrm>
            <a:off x="8037360" y="2492280"/>
            <a:ext cx="1945440" cy="1945440"/>
          </a:xfrm>
          <a:prstGeom prst="straightConnector1">
            <a:avLst/>
          </a:prstGeom>
          <a:ln w="2844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759" name="直接箭头连接符 12"/>
          <p:cNvCxnSpPr>
            <a:stCxn id="754" idx="3"/>
            <a:endCxn id="755" idx="1"/>
          </p:cNvCxnSpPr>
          <p:nvPr/>
        </p:nvCxnSpPr>
        <p:spPr>
          <a:xfrm flipV="1">
            <a:off x="5899320" y="5117760"/>
            <a:ext cx="2815200" cy="69120"/>
          </a:xfrm>
          <a:prstGeom prst="straightConnector1">
            <a:avLst/>
          </a:prstGeom>
          <a:ln w="28440">
            <a:solidFill>
              <a:srgbClr val="4f6228"/>
            </a:solidFill>
            <a:round/>
            <a:tailEnd len="med" type="arrow" w="med"/>
          </a:ln>
        </p:spPr>
      </p:cxnSp>
      <p:sp>
        <p:nvSpPr>
          <p:cNvPr id="760" name="文本框 13"/>
          <p:cNvSpPr/>
          <p:nvPr/>
        </p:nvSpPr>
        <p:spPr>
          <a:xfrm>
            <a:off x="4764960" y="2984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1" name="文本框 14"/>
          <p:cNvSpPr/>
          <p:nvPr/>
        </p:nvSpPr>
        <p:spPr>
          <a:xfrm>
            <a:off x="6827040" y="4487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循循善诱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2" name="文本框 15"/>
          <p:cNvSpPr/>
          <p:nvPr/>
        </p:nvSpPr>
        <p:spPr>
          <a:xfrm>
            <a:off x="6827040" y="5238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尊重爱护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3" name="文本框 16"/>
          <p:cNvSpPr/>
          <p:nvPr/>
        </p:nvSpPr>
        <p:spPr>
          <a:xfrm>
            <a:off x="8970480" y="2662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4" name="文本框 17"/>
          <p:cNvSpPr/>
          <p:nvPr/>
        </p:nvSpPr>
        <p:spPr>
          <a:xfrm>
            <a:off x="8164800" y="3173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7f7f7f"/>
                </a:solidFill>
                <a:uFillTx/>
                <a:latin typeface="黑体"/>
                <a:ea typeface="黑体"/>
              </a:rPr>
              <a:t>放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文本框 4"/>
          <p:cNvSpPr/>
          <p:nvPr/>
        </p:nvSpPr>
        <p:spPr>
          <a:xfrm>
            <a:off x="3745080" y="1720800"/>
            <a:ext cx="6359400" cy="33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50000"/>
              </a:lnSpc>
              <a:buClr>
                <a:srgbClr val="7f7f7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我们要爱护动物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7f7f7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我们做人要诚实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743040" indent="-743040">
              <a:lnSpc>
                <a:spcPct val="150000"/>
              </a:lnSpc>
              <a:buClr>
                <a:srgbClr val="7f7f7f"/>
              </a:buClr>
              <a:buFont typeface="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7f7f7f"/>
                </a:solidFill>
                <a:uFillTx/>
                <a:latin typeface="楷体"/>
                <a:ea typeface="楷体"/>
              </a:rPr>
              <a:t>对待他人要宽容。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14" descr="C:\Documents and Settings\t11318\桌面\新建文件夹\green_leaf.png"/>
          <p:cNvPicPr/>
          <p:nvPr/>
        </p:nvPicPr>
        <p:blipFill>
          <a:blip r:embed="rId1"/>
          <a:stretch/>
        </p:blipFill>
        <p:spPr>
          <a:xfrm>
            <a:off x="-19080" y="684360"/>
            <a:ext cx="290520" cy="295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4" name="Picture 14" descr="C:\Documents and Settings\t11318\桌面\新建文件夹\green_leaf.png"/>
          <p:cNvPicPr/>
          <p:nvPr/>
        </p:nvPicPr>
        <p:blipFill>
          <a:blip r:embed="rId2"/>
          <a:stretch/>
        </p:blipFill>
        <p:spPr>
          <a:xfrm>
            <a:off x="1214280" y="2168640"/>
            <a:ext cx="289080" cy="295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5" name="Picture 14" descr="C:\Documents and Settings\t11318\桌面\新建文件夹\green_leaf.png"/>
          <p:cNvPicPr/>
          <p:nvPr/>
        </p:nvPicPr>
        <p:blipFill>
          <a:blip r:embed="rId3"/>
          <a:stretch/>
        </p:blipFill>
        <p:spPr>
          <a:xfrm>
            <a:off x="407880" y="3821040"/>
            <a:ext cx="289080" cy="295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6" name="Picture 14" descr="C:\Documents and Settings\t11318\桌面\新建文件夹\green_leaf.png"/>
          <p:cNvPicPr/>
          <p:nvPr/>
        </p:nvPicPr>
        <p:blipFill>
          <a:blip r:embed="rId4"/>
          <a:stretch/>
        </p:blipFill>
        <p:spPr>
          <a:xfrm>
            <a:off x="-868320" y="2463840"/>
            <a:ext cx="345960" cy="350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7" name="Picture 14" descr="C:\Documents and Settings\t11318\桌面\新建文件夹\green_leaf.png"/>
          <p:cNvPicPr/>
          <p:nvPr/>
        </p:nvPicPr>
        <p:blipFill>
          <a:blip r:embed="rId5"/>
          <a:stretch/>
        </p:blipFill>
        <p:spPr>
          <a:xfrm>
            <a:off x="684360" y="3335400"/>
            <a:ext cx="288720" cy="295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8" name="Picture 14" descr="C:\Documents and Settings\t11318\桌面\新建文件夹\green_leaf.png"/>
          <p:cNvPicPr/>
          <p:nvPr/>
        </p:nvPicPr>
        <p:blipFill>
          <a:blip r:embed="rId6"/>
          <a:stretch/>
        </p:blipFill>
        <p:spPr>
          <a:xfrm>
            <a:off x="419040" y="1461960"/>
            <a:ext cx="344520" cy="351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19" name="Picture 14" descr="C:\Documents and Settings\t11318\桌面\新建文件夹\green_leaf.png"/>
          <p:cNvPicPr/>
          <p:nvPr/>
        </p:nvPicPr>
        <p:blipFill>
          <a:blip r:embed="rId7"/>
          <a:stretch/>
        </p:blipFill>
        <p:spPr>
          <a:xfrm>
            <a:off x="407880" y="2479680"/>
            <a:ext cx="289080" cy="293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0" name="Picture 18" descr="C:\Documents and Settings\t11318\桌面\新建文件夹\未标题-3.png"/>
          <p:cNvPicPr/>
          <p:nvPr/>
        </p:nvPicPr>
        <p:blipFill>
          <a:blip r:embed="rId8"/>
          <a:stretch/>
        </p:blipFill>
        <p:spPr>
          <a:xfrm rot="7844400">
            <a:off x="2017080" y="99720"/>
            <a:ext cx="377640" cy="222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1" name="Picture 18" descr="C:\Documents and Settings\t11318\桌面\新建文件夹\未标题-3.png"/>
          <p:cNvPicPr/>
          <p:nvPr/>
        </p:nvPicPr>
        <p:blipFill>
          <a:blip r:embed="rId9"/>
          <a:stretch/>
        </p:blipFill>
        <p:spPr>
          <a:xfrm rot="7844400">
            <a:off x="-512280" y="142200"/>
            <a:ext cx="431640" cy="25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2" name="Picture 18" descr="C:\Documents and Settings\t11318\桌面\新建文件夹\未标题-3.png"/>
          <p:cNvPicPr/>
          <p:nvPr/>
        </p:nvPicPr>
        <p:blipFill>
          <a:blip r:embed="rId10"/>
          <a:stretch/>
        </p:blipFill>
        <p:spPr>
          <a:xfrm rot="7844400">
            <a:off x="-695520" y="1767960"/>
            <a:ext cx="349200" cy="206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3" name="Picture 18" descr="C:\Documents and Settings\t11318\桌面\新建文件夹\未标题-3.png"/>
          <p:cNvPicPr/>
          <p:nvPr/>
        </p:nvPicPr>
        <p:blipFill>
          <a:blip r:embed="rId11"/>
          <a:stretch/>
        </p:blipFill>
        <p:spPr>
          <a:xfrm rot="7844400">
            <a:off x="-780480" y="3458520"/>
            <a:ext cx="431640" cy="2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4" name="Picture 18" descr="C:\Documents and Settings\t11318\桌面\新建文件夹\未标题-3.png"/>
          <p:cNvPicPr/>
          <p:nvPr/>
        </p:nvPicPr>
        <p:blipFill>
          <a:blip r:embed="rId12"/>
          <a:stretch/>
        </p:blipFill>
        <p:spPr>
          <a:xfrm rot="7844400">
            <a:off x="-543960" y="1234440"/>
            <a:ext cx="431640" cy="254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5" name="Picture 18" descr="C:\Documents and Settings\t11318\桌面\新建文件夹\未标题-3.png"/>
          <p:cNvPicPr/>
          <p:nvPr/>
        </p:nvPicPr>
        <p:blipFill>
          <a:blip r:embed="rId13"/>
          <a:stretch/>
        </p:blipFill>
        <p:spPr>
          <a:xfrm rot="7844400">
            <a:off x="1097640" y="1373760"/>
            <a:ext cx="431640" cy="255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6" name="Picture 19" descr="C:\Documents and Settings\t11318\桌面\新建文件夹\a.png"/>
          <p:cNvPicPr/>
          <p:nvPr/>
        </p:nvPicPr>
        <p:blipFill>
          <a:blip r:embed="rId14"/>
          <a:stretch/>
        </p:blipFill>
        <p:spPr>
          <a:xfrm>
            <a:off x="615960" y="5413320"/>
            <a:ext cx="42552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7" name="Picture 19" descr="C:\Documents and Settings\t11318\桌面\新建文件夹\a.png"/>
          <p:cNvPicPr/>
          <p:nvPr/>
        </p:nvPicPr>
        <p:blipFill>
          <a:blip r:embed="rId15"/>
          <a:stretch/>
        </p:blipFill>
        <p:spPr>
          <a:xfrm>
            <a:off x="528480" y="4151160"/>
            <a:ext cx="42876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8" name="Picture 19" descr="C:\Documents and Settings\t11318\桌面\新建文件夹\a.png"/>
          <p:cNvPicPr/>
          <p:nvPr/>
        </p:nvPicPr>
        <p:blipFill>
          <a:blip r:embed="rId16"/>
          <a:stretch/>
        </p:blipFill>
        <p:spPr>
          <a:xfrm>
            <a:off x="1420920" y="165240"/>
            <a:ext cx="425520" cy="21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29" name="Picture 19" descr="C:\Documents and Settings\t11318\桌面\新建文件夹\a.png"/>
          <p:cNvPicPr/>
          <p:nvPr/>
        </p:nvPicPr>
        <p:blipFill>
          <a:blip r:embed="rId17"/>
          <a:stretch/>
        </p:blipFill>
        <p:spPr>
          <a:xfrm rot="20175000">
            <a:off x="931680" y="3217680"/>
            <a:ext cx="425160" cy="21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0" name="Picture 19" descr="C:\Documents and Settings\t11318\桌面\新建文件夹\a.png"/>
          <p:cNvPicPr/>
          <p:nvPr/>
        </p:nvPicPr>
        <p:blipFill>
          <a:blip r:embed="rId18"/>
          <a:stretch/>
        </p:blipFill>
        <p:spPr>
          <a:xfrm>
            <a:off x="614520" y="2949480"/>
            <a:ext cx="377640" cy="1875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19" descr="C:\Documents and Settings\t11318\桌面\新建文件夹\a.png"/>
          <p:cNvPicPr/>
          <p:nvPr/>
        </p:nvPicPr>
        <p:blipFill>
          <a:blip r:embed="rId19"/>
          <a:stretch/>
        </p:blipFill>
        <p:spPr>
          <a:xfrm>
            <a:off x="347760" y="1066680"/>
            <a:ext cx="42552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2" name="Picture 19" descr="C:\Documents and Settings\t11318\桌面\新建文件夹\a.png"/>
          <p:cNvPicPr/>
          <p:nvPr/>
        </p:nvPicPr>
        <p:blipFill>
          <a:blip r:embed="rId20"/>
          <a:stretch/>
        </p:blipFill>
        <p:spPr>
          <a:xfrm>
            <a:off x="754200" y="2354400"/>
            <a:ext cx="425160" cy="21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3" name="Picture 19" descr="C:\Documents and Settings\t11318\桌面\新建文件夹\a.png"/>
          <p:cNvPicPr/>
          <p:nvPr/>
        </p:nvPicPr>
        <p:blipFill>
          <a:blip r:embed="rId21"/>
          <a:stretch/>
        </p:blipFill>
        <p:spPr>
          <a:xfrm>
            <a:off x="3884760" y="325440"/>
            <a:ext cx="425160" cy="210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4" name="Picture 18" descr="C:\Documents and Settings\t11318\桌面\新建文件夹\未标题-3.png"/>
          <p:cNvPicPr/>
          <p:nvPr/>
        </p:nvPicPr>
        <p:blipFill>
          <a:blip r:embed="rId22"/>
          <a:stretch/>
        </p:blipFill>
        <p:spPr>
          <a:xfrm rot="7844400">
            <a:off x="938160" y="1441080"/>
            <a:ext cx="377640" cy="222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5" name="图片 8" descr=""/>
          <p:cNvPicPr/>
          <p:nvPr/>
        </p:nvPicPr>
        <p:blipFill>
          <a:blip r:embed="rId23"/>
          <a:stretch/>
        </p:blipFill>
        <p:spPr>
          <a:xfrm>
            <a:off x="971640" y="4390920"/>
            <a:ext cx="242640" cy="311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6" name="图片 9" descr=""/>
          <p:cNvPicPr/>
          <p:nvPr/>
        </p:nvPicPr>
        <p:blipFill>
          <a:blip r:embed="rId24"/>
          <a:stretch/>
        </p:blipFill>
        <p:spPr>
          <a:xfrm>
            <a:off x="2344680" y="460440"/>
            <a:ext cx="35244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7" name="图片 30" descr=""/>
          <p:cNvPicPr/>
          <p:nvPr/>
        </p:nvPicPr>
        <p:blipFill>
          <a:blip r:embed="rId25"/>
          <a:stretch/>
        </p:blipFill>
        <p:spPr>
          <a:xfrm>
            <a:off x="861840" y="4457880"/>
            <a:ext cx="324000" cy="3394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8" name="Picture 19" descr="C:\Documents and Settings\t11318\桌面\新建文件夹\a.png"/>
          <p:cNvPicPr/>
          <p:nvPr/>
        </p:nvPicPr>
        <p:blipFill>
          <a:blip r:embed="rId26"/>
          <a:stretch/>
        </p:blipFill>
        <p:spPr>
          <a:xfrm>
            <a:off x="646200" y="3483000"/>
            <a:ext cx="350640" cy="173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39" name="图片 42" descr=""/>
          <p:cNvPicPr/>
          <p:nvPr/>
        </p:nvPicPr>
        <p:blipFill>
          <a:blip r:embed="rId27"/>
          <a:stretch/>
        </p:blipFill>
        <p:spPr>
          <a:xfrm>
            <a:off x="382680" y="4529160"/>
            <a:ext cx="244440" cy="31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0" name="图片 47" descr=""/>
          <p:cNvPicPr/>
          <p:nvPr/>
        </p:nvPicPr>
        <p:blipFill>
          <a:blip r:embed="rId28"/>
          <a:stretch/>
        </p:blipFill>
        <p:spPr>
          <a:xfrm>
            <a:off x="95400" y="527040"/>
            <a:ext cx="323640" cy="339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1" name="图片 50" descr=""/>
          <p:cNvPicPr/>
          <p:nvPr/>
        </p:nvPicPr>
        <p:blipFill>
          <a:blip r:embed="rId29"/>
          <a:stretch/>
        </p:blipFill>
        <p:spPr>
          <a:xfrm>
            <a:off x="297000" y="3808440"/>
            <a:ext cx="242640" cy="31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2" name="图片 54" descr=""/>
          <p:cNvPicPr/>
          <p:nvPr/>
        </p:nvPicPr>
        <p:blipFill>
          <a:blip r:embed="rId30"/>
          <a:stretch/>
        </p:blipFill>
        <p:spPr>
          <a:xfrm>
            <a:off x="1422360" y="-174600"/>
            <a:ext cx="243000" cy="31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3" name="图片 59" descr=""/>
          <p:cNvPicPr/>
          <p:nvPr/>
        </p:nvPicPr>
        <p:blipFill>
          <a:blip r:embed="rId31"/>
          <a:stretch/>
        </p:blipFill>
        <p:spPr>
          <a:xfrm>
            <a:off x="382680" y="1665360"/>
            <a:ext cx="244440" cy="31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4" name="图片 62" descr=""/>
          <p:cNvPicPr/>
          <p:nvPr/>
        </p:nvPicPr>
        <p:blipFill>
          <a:blip r:embed="rId32"/>
          <a:stretch/>
        </p:blipFill>
        <p:spPr>
          <a:xfrm>
            <a:off x="525600" y="3130560"/>
            <a:ext cx="215640" cy="276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5" name="图片 65" descr=""/>
          <p:cNvPicPr/>
          <p:nvPr/>
        </p:nvPicPr>
        <p:blipFill>
          <a:blip r:embed="rId33"/>
          <a:stretch/>
        </p:blipFill>
        <p:spPr>
          <a:xfrm rot="20624400">
            <a:off x="-1657440" y="577800"/>
            <a:ext cx="324000" cy="341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6" name="图片 69" descr=""/>
          <p:cNvPicPr/>
          <p:nvPr/>
        </p:nvPicPr>
        <p:blipFill>
          <a:blip r:embed="rId34"/>
          <a:stretch/>
        </p:blipFill>
        <p:spPr>
          <a:xfrm rot="20624400">
            <a:off x="673200" y="793800"/>
            <a:ext cx="323640" cy="339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7" name="图片 71" descr=""/>
          <p:cNvPicPr/>
          <p:nvPr/>
        </p:nvPicPr>
        <p:blipFill>
          <a:blip r:embed="rId35"/>
          <a:stretch/>
        </p:blipFill>
        <p:spPr>
          <a:xfrm rot="20624400">
            <a:off x="-182520" y="2987280"/>
            <a:ext cx="326880" cy="341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8" name="图片 73" descr=""/>
          <p:cNvPicPr/>
          <p:nvPr/>
        </p:nvPicPr>
        <p:blipFill>
          <a:blip r:embed="rId36"/>
          <a:stretch/>
        </p:blipFill>
        <p:spPr>
          <a:xfrm rot="20624400">
            <a:off x="-382320" y="4025520"/>
            <a:ext cx="295200" cy="312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49" name="图片 76" descr=""/>
          <p:cNvPicPr/>
          <p:nvPr/>
        </p:nvPicPr>
        <p:blipFill>
          <a:blip r:embed="rId37"/>
          <a:stretch/>
        </p:blipFill>
        <p:spPr>
          <a:xfrm rot="20624400">
            <a:off x="-747720" y="2063880"/>
            <a:ext cx="324000" cy="341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0" name="Picture 19" descr="C:\Documents and Settings\t11318\桌面\新建文件夹\a.png"/>
          <p:cNvPicPr/>
          <p:nvPr/>
        </p:nvPicPr>
        <p:blipFill>
          <a:blip r:embed="rId38"/>
          <a:stretch/>
        </p:blipFill>
        <p:spPr>
          <a:xfrm rot="8192400">
            <a:off x="-1864800" y="1705680"/>
            <a:ext cx="42516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1" name="Picture 19" descr="C:\Documents and Settings\t11318\桌面\新建文件夹\a.png"/>
          <p:cNvPicPr/>
          <p:nvPr/>
        </p:nvPicPr>
        <p:blipFill>
          <a:blip r:embed="rId39"/>
          <a:stretch/>
        </p:blipFill>
        <p:spPr>
          <a:xfrm rot="8192400">
            <a:off x="1028520" y="2927160"/>
            <a:ext cx="379080" cy="185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2" name="Picture 19" descr="C:\Documents and Settings\t11318\桌面\新建文件夹\a.png"/>
          <p:cNvPicPr/>
          <p:nvPr/>
        </p:nvPicPr>
        <p:blipFill>
          <a:blip r:embed="rId40"/>
          <a:stretch/>
        </p:blipFill>
        <p:spPr>
          <a:xfrm rot="8192400">
            <a:off x="-1407600" y="3479040"/>
            <a:ext cx="42516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3" name="Picture 19" descr="C:\Documents and Settings\t11318\桌面\新建文件夹\a.png"/>
          <p:cNvPicPr/>
          <p:nvPr/>
        </p:nvPicPr>
        <p:blipFill>
          <a:blip r:embed="rId41"/>
          <a:stretch/>
        </p:blipFill>
        <p:spPr>
          <a:xfrm rot="8192400">
            <a:off x="931680" y="2049480"/>
            <a:ext cx="376200" cy="187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4" name="Picture 19" descr="C:\Documents and Settings\t11318\桌面\新建文件夹\a.png"/>
          <p:cNvPicPr/>
          <p:nvPr/>
        </p:nvPicPr>
        <p:blipFill>
          <a:blip r:embed="rId42"/>
          <a:stretch/>
        </p:blipFill>
        <p:spPr>
          <a:xfrm rot="8192400">
            <a:off x="175680" y="2889360"/>
            <a:ext cx="349560" cy="17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5" name="Picture 19" descr="C:\Documents and Settings\t11318\桌面\新建文件夹\a.png"/>
          <p:cNvPicPr/>
          <p:nvPr/>
        </p:nvPicPr>
        <p:blipFill>
          <a:blip r:embed="rId43"/>
          <a:stretch/>
        </p:blipFill>
        <p:spPr>
          <a:xfrm rot="8192400">
            <a:off x="2010960" y="557280"/>
            <a:ext cx="351000" cy="172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6" name="Picture 19" descr="C:\Documents and Settings\t11318\桌面\新建文件夹\a.png"/>
          <p:cNvPicPr/>
          <p:nvPr/>
        </p:nvPicPr>
        <p:blipFill>
          <a:blip r:embed="rId44"/>
          <a:stretch/>
        </p:blipFill>
        <p:spPr>
          <a:xfrm rot="8192400">
            <a:off x="264960" y="4901400"/>
            <a:ext cx="42552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7" name="Picture 19" descr="C:\Documents and Settings\t11318\桌面\新建文件夹\a.png"/>
          <p:cNvPicPr/>
          <p:nvPr/>
        </p:nvPicPr>
        <p:blipFill>
          <a:blip r:embed="rId45"/>
          <a:stretch/>
        </p:blipFill>
        <p:spPr>
          <a:xfrm rot="8192400">
            <a:off x="1134360" y="627120"/>
            <a:ext cx="376200" cy="185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8" name="Picture 19" descr="C:\Documents and Settings\t11318\桌面\新建文件夹\a.png"/>
          <p:cNvPicPr/>
          <p:nvPr/>
        </p:nvPicPr>
        <p:blipFill>
          <a:blip r:embed="rId46"/>
          <a:stretch/>
        </p:blipFill>
        <p:spPr>
          <a:xfrm rot="8192400">
            <a:off x="1115280" y="1798200"/>
            <a:ext cx="351000" cy="174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59" name="Picture 19" descr="C:\Documents and Settings\t11318\桌面\新建文件夹\a.png"/>
          <p:cNvPicPr/>
          <p:nvPr/>
        </p:nvPicPr>
        <p:blipFill>
          <a:blip r:embed="rId47"/>
          <a:stretch/>
        </p:blipFill>
        <p:spPr>
          <a:xfrm>
            <a:off x="512640" y="4383000"/>
            <a:ext cx="425520" cy="211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0" name="图片 100" descr=""/>
          <p:cNvPicPr/>
          <p:nvPr/>
        </p:nvPicPr>
        <p:blipFill>
          <a:blip r:embed="rId48"/>
          <a:stretch/>
        </p:blipFill>
        <p:spPr>
          <a:xfrm rot="20624400">
            <a:off x="1109160" y="3781080"/>
            <a:ext cx="295560" cy="31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1" name="Picture 19" descr="C:\Documents and Settings\t11318\桌面\新建文件夹\a.png"/>
          <p:cNvPicPr/>
          <p:nvPr/>
        </p:nvPicPr>
        <p:blipFill>
          <a:blip r:embed="rId49"/>
          <a:stretch/>
        </p:blipFill>
        <p:spPr>
          <a:xfrm rot="8192400">
            <a:off x="811080" y="3714840"/>
            <a:ext cx="378000" cy="187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562" name="Picture 18" descr="C:\Documents and Settings\t11318\桌面\新建文件夹\未标题-3.png"/>
          <p:cNvPicPr/>
          <p:nvPr/>
        </p:nvPicPr>
        <p:blipFill>
          <a:blip r:embed="rId50"/>
          <a:stretch/>
        </p:blipFill>
        <p:spPr>
          <a:xfrm rot="7844400">
            <a:off x="1326600" y="510840"/>
            <a:ext cx="377640" cy="222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63" name="文本框 2"/>
          <p:cNvSpPr/>
          <p:nvPr/>
        </p:nvSpPr>
        <p:spPr>
          <a:xfrm>
            <a:off x="4591080" y="3130560"/>
            <a:ext cx="4576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26  </a:t>
            </a:r>
            <a:r>
              <a:rPr b="0" i="1" lang="zh-CN" sz="9600" spc="-1" strike="noStrike" u="sng">
                <a:solidFill>
                  <a:srgbClr val="000000"/>
                </a:solidFill>
                <a:uFillTx/>
                <a:latin typeface="方正卡通简体"/>
                <a:ea typeface="方正卡通简体"/>
              </a:rPr>
              <a:t>灰雀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10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C 0.04028 -0.0037 0.08056 -0.0074 0.10834 -0.01967 C 0.13611 -0.03171 0.14202 -0.06828 0.16667 -0.07245 C 0.19132 -0.07662 0.22778 -0.04838 0.25608 -0.04444 C 0.28473 -0.04074 0.28091 -0.0956 0.3375 -0.05 C 0.3941 -0.00463 0.51146 0.19005 0.59584 0.22755 C 0.68021 0.26505 0.75348 0.11505 0.84375 0.17477 C 0.93403 0.23449 1.02483 0.51783 1.13733 0.58588 C 1.24983 0.65394 1.49132 0.63033 1.51875 0.58311 E">
                                      <p:cBhvr>
                                        <p:cTn id="28" dur="10000" fill="hold"/>
                                        <p:tgtEl>
                                          <p:spTgt spid="5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8" repeatCount="indefinite">
                                  <p:stCondLst>
                                    <p:cond delay="7000"/>
                                  </p:stCondLst>
                                  <p:childTnLst>
                                    <p:animRot by="21600000">
                                      <p:cBhvr>
                                        <p:cTn id="30" dur="9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9" presetSubtype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9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9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path" presetID="0" repeatCount="indefinite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1.38889E-006 2.96296E-006 C 0.06545 -0.01944 0.13091 -0.03889 0.18542 -0.02222 C 0.23993 -0.00555 0.24792 0.00787 0.32709 0.1 C 0.40625 0.19213 0.54028 0.43333 0.66042 0.53056 C 0.78056 0.62778 0.97223 0.66065 1.04792 0.68333 E">
                                      <p:cBhvr>
                                        <p:cTn id="36" dur="9000" fill="hold"/>
                                        <p:tgtEl>
                                          <p:spTgt spid="5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mph" presetID="8" repeatCount="indefinite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38" dur="8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9" presetSubtype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8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1.66667E-006 -5.92593E-006 C -0.01545 0.04212 -0.0309 0.08425 0.08125 0.1111 C 0.19323 0.13795 0.47327 0.09536 0.67292 0.1611 C 0.87257 0.22684 1.1566 0.44536 1.279 0.50555 E">
                                      <p:cBhvr>
                                        <p:cTn id="44" dur="8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mph" presetID="8" repeatCount="indefinite">
                                  <p:stCondLst>
                                    <p:cond delay="5500"/>
                                  </p:stCondLst>
                                  <p:childTnLst>
                                    <p:animRot by="21600000">
                                      <p:cBhvr>
                                        <p:cTn id="46" dur="10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9" presetSubtype="10" repeatCount="indefinite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path" presetID="0" repeatCount="indefinite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0.00403 -4.81481E-006 C -0.01341 0.03774 -0.03085 0.0757 0.09565 0.1 C 0.22202 0.12408 0.53748 0.08588 0.76249 0.14491 C 0.98763 0.20417 1.30804 0.40093 1.44599 0.45533 E">
                                      <p:cBhvr>
                                        <p:cTn id="52" dur="10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childTnLst>
                                    <p:animRot by="21600000">
                                      <p:cBhvr>
                                        <p:cTn id="54" dur="9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9" presetSubtype="10" repeatCount="indefinite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9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9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16667E-006 4.07407E-006 C 0.01267 0.08611 0.02552 0.17222 0.0625 0.19583 C 0.09948 0.21944 0.1599 0.12222 0.22188 0.14166 C 0.28385 0.16111 0.31076 0.28055 0.43438 0.3125 C 0.55781 0.34444 0.83698 0.25694 0.9625 0.33333 C 1.08802 0.40972 1.12083 0.70902 1.1875 0.77083 E">
                                      <p:cBhvr>
                                        <p:cTn id="60" dur="9000" fill="hold"/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mph" presetID="8" repeatCount="indefinite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62" dur="10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9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1.92608E-007 1.11111E-006 C 0.0285 -0.0669 0.057 -0.1338 0.11452 -0.05556 C 0.17205 0.02268 0.27017 0.34907 0.34565 0.46944 C 0.42139 0.58981 0.46005 0.64722 0.56871 0.66667 C 0.67738 0.68611 0.87311 0.56713 0.99779 0.58611 C 1.12259 0.60486 1.25573 0.7625 1.3165 0.78055 E">
                                      <p:cBhvr>
                                        <p:cTn id="68" dur="10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mph" presetID="8" repeatCount="indefinite">
                                  <p:stCondLst>
                                    <p:cond delay="4000"/>
                                  </p:stCondLst>
                                  <p:childTnLst>
                                    <p:animRot by="21600000">
                                      <p:cBhvr>
                                        <p:cTn id="70" dur="9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9" presetSubtype="10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9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9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8.33333E-007 8.51852E-006 C 0.08108 -0.02754 0.16215 -0.05509 0.24167 -0.04444 C 0.32101 -0.03379 0.38368 0.04862 0.47708 0.06389 C 0.57049 0.07917 0.70938 0.03704 0.80208 0.04723 C 0.89479 0.05741 0.96771 0.11297 1.03333 0.12501 C 1.09896 0.13704 1.15417 0.12501 1.19583 0.11945 C 1.2375 0.11389 1.26111 0.08889 1.28333 0.09167 E">
                                      <p:cBhvr>
                                        <p:cTn id="76" dur="950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mph" presetID="8" repeatCount="indefinite">
                                  <p:stCondLst>
                                    <p:cond delay="2200"/>
                                  </p:stCondLst>
                                  <p:childTnLst>
                                    <p:animRot by="21600000">
                                      <p:cBhvr>
                                        <p:cTn id="78" dur="1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9" presetSubtype="10" repeatCount="indefinite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path" presetID="0" repeatCount="indefinite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6.76731E-007 -4.07407E-006 C 0.03175 0.14144 0.06351 0.28287 0.14172 0.36945 C 0.21981 0.45602 0.37819 0.41621 0.46877 0.51945 C 0.55934 0.62269 0.59826 0.86204 0.68545 0.98889 C 0.77251 1.11574 0.90213 1.22315 0.99167 1.28056 C 1.08121 1.33797 1.17504 1.29954 1.22293 1.33334 C 1.27082 1.36713 1.28436 1.46112 1.27915 1.48334 E">
                                      <p:cBhvr>
                                        <p:cTn id="84" dur="12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 repeatCount="indefinite">
                                  <p:stCondLst>
                                    <p:cond delay="6600"/>
                                  </p:stCondLst>
                                  <p:childTnLst>
                                    <p:animRot by="21600000">
                                      <p:cBhvr>
                                        <p:cTn id="86" dur="1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9" presetSubtype="10" repeatCount="indefinite">
                                  <p:stCondLst>
                                    <p:cond delay="6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4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 repeatCount="indefinite">
                                  <p:stCondLst>
                                    <p:cond delay="6600"/>
                                  </p:stCondLst>
                                  <p:childTnLst>
                                    <p:animMotion origin="layout" path="M -2.77778E-007 -2.22222E-006 C 0.03177 0.14143 0.06355 0.28287 0.14167 0.36944 C 0.2198 0.45602 0.37813 0.4162 0.46875 0.51944 C 0.55938 0.62268 0.59827 0.86203 0.68542 0.98889 C 0.77257 1.11574 0.90209 1.22315 0.99167 1.28055 C 1.08125 1.33796 1.175 1.29953 1.22292 1.33333 C 1.27084 1.36713 1.28438 1.46111 1.27917 1.48333 E">
                                      <p:cBhvr>
                                        <p:cTn id="92" dur="14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mph" presetID="8" repeatCount="indefinite">
                                  <p:stCondLst>
                                    <p:cond delay="7500"/>
                                  </p:stCondLst>
                                  <p:childTnLst>
                                    <p:animRot by="21600000">
                                      <p:cBhvr>
                                        <p:cTn id="94" dur="1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9" presetSubtype="10" repeatCount="indefinite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4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 repeatCount="indefinite">
                                  <p:stCondLst>
                                    <p:cond delay="7500"/>
                                  </p:stCondLst>
                                  <p:childTnLst>
                                    <p:animMotion origin="layout" path="M 1.46799E-006 -7.40741E-007 C 0.08537 -0.02361 0.17113 -0.04722 0.21876 -0.03611 C 0.26666 -0.025 0.26106 -0.01065 0.28748 0.06667 C 0.3139 0.14398 0.34656 0.31991 0.37702 0.42778 C 0.4076 0.53565 0.37324 0.64167 0.47085 0.71389 C 0.56845 0.78611 0.86179 0.86157 0.96252 0.86111 E">
                                      <p:cBhvr>
                                        <p:cTn id="100" dur="14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8" repeatCount="indefinite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02" dur="113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9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13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13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6.66667E-006 5.18519E-006 C 0.08333 -0.06666 0.16683 -0.13332 0.26892 -0.14721 C 0.37083 -0.1611 0.49235 -0.07129 0.61249 -0.08332 C 0.73263 -0.09536 0.88923 -0.18795 0.98958 -0.21944 C 1.08992 -0.25092 1.12812 -0.31573 1.21458 -0.27221 C 1.30104 -0.22869 1.44409 -0.03471 1.50833 0.04168 E">
                                      <p:cBhvr>
                                        <p:cTn id="108" dur="113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10" dur="9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9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8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33333E-006 0.00023 C 0.1342 -0.03194 0.2684 -0.06458 0.39167 -0.08032 C 0.51493 -0.09606 0.61007 -0.14167 0.73958 -0.09421 C 0.8691 -0.04653 1.05226 0.08819 1.16875 0.20579 C 1.28507 0.32338 1.37083 0.56829 1.4375 0.61134 E">
                                      <p:cBhvr>
                                        <p:cTn id="116" dur="98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mph" presetID="8" repeatCount="indefinite">
                                  <p:stCondLst>
                                    <p:cond delay="6900"/>
                                  </p:stCondLst>
                                  <p:childTnLst>
                                    <p:animRot by="21600000">
                                      <p:cBhvr>
                                        <p:cTn id="118" dur="10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9" presetSubtype="10" repeatCount="indefinite">
                                  <p:stCondLst>
                                    <p:cond delay="69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 repeatCount="indefinite">
                                  <p:stCondLst>
                                    <p:cond delay="6900"/>
                                  </p:stCondLst>
                                  <p:childTnLst>
                                    <p:animMotion origin="layout" path="M 4.73712E-006 -1.48148E-006 C 0.12727 -0.00555 0.25455 -0.01111 0.35203 0.01667 C 0.4495 0.04445 0.50793 0.08796 0.58537 0.16667 C 0.66267 0.24537 0.73086 0.3838 0.81663 0.48889 C 0.90239 0.59398 1.04333 0.73704 1.09994 0.79722 E">
                                      <p:cBhvr>
                                        <p:cTn id="124" dur="10000" fill="hold"/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 repeatCount="indefinite">
                                  <p:stCondLst>
                                    <p:cond delay="5000"/>
                                  </p:stCondLst>
                                  <p:childTnLst>
                                    <p:animRot by="21600000">
                                      <p:cBhvr>
                                        <p:cTn id="126" dur="1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9" presetSubtype="10" repeatCount="indefinite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3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0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16667E-006 -3.7037E-006 C 0.04028 -0.0037 0.08056 -0.0074 0.10834 -0.01967 C 0.13611 -0.03171 0.14202 -0.06828 0.16667 -0.07245 C 0.19132 -0.07662 0.22778 -0.04838 0.25608 -0.04444 C 0.28473 -0.04074 0.28091 -0.0956 0.3375 -0.05 C 0.3941 -0.00463 0.51146 0.19005 0.59584 0.22755 C 0.68021 0.26505 0.75348 0.11505 0.84375 0.17477 C 0.93403 0.23449 1.02483 0.51783 1.13733 0.58588 C 1.24983 0.65394 1.49132 0.63033 1.51875 0.58311 E">
                                      <p:cBhvr>
                                        <p:cTn id="132" dur="13000" fill="hold"/>
                                        <p:tgtEl>
                                          <p:spTgt spid="5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 repeatCount="indefinite">
                                  <p:stCondLst>
                                    <p:cond delay="3400"/>
                                  </p:stCondLst>
                                  <p:childTnLst>
                                    <p:animRot by="21600000">
                                      <p:cBhvr>
                                        <p:cTn id="134" dur="1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19" presetSubtype="10" repeatCount="indefinite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5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path" presetID="0" repeatCount="indefinite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-1.38889E-006 2.96296E-006 C 0.06545 -0.01944 0.13091 -0.03889 0.18542 -0.02222 C 0.23993 -0.00555 0.24792 0.00787 0.32709 0.1 C 0.40625 0.19213 0.54028 0.43333 0.66042 0.53056 C 0.78056 0.62778 0.97223 0.66065 1.04792 0.68333 E">
                                      <p:cBhvr>
                                        <p:cTn id="140" dur="15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 repeatCount="indefinite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142" dur="97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9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97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97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66667E-006 -5.92593E-006 C -0.01545 0.04212 -0.0309 0.08425 0.08125 0.1111 C 0.19323 0.13795 0.47327 0.09536 0.67292 0.1611 C 0.87257 0.22684 1.1566 0.44536 1.279 0.50555 E">
                                      <p:cBhvr>
                                        <p:cTn id="148" dur="9700" fill="hold"/>
                                        <p:tgtEl>
                                          <p:spTgt spid="5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 repeatCount="indefinite">
                                  <p:stCondLst>
                                    <p:cond delay="4300"/>
                                  </p:stCondLst>
                                  <p:childTnLst>
                                    <p:animRot by="21600000">
                                      <p:cBhvr>
                                        <p:cTn id="150" dur="132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9" presetSubtype="10" repeatCount="indefinite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32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2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path" presetID="0" repeatCount="indefinite">
                                  <p:stCondLst>
                                    <p:cond delay="4300"/>
                                  </p:stCondLst>
                                  <p:childTnLst>
                                    <p:animMotion origin="layout" path="M 0.00399 -4.07407E-006 C -0.01337 0.03774 -0.0309 0.0757 0.09566 0.1 C 0.22188 0.12408 0.5375 0.08588 0.7625 0.14491 C 0.98768 0.20417 1.30799 0.40093 1.44601 0.45533 E">
                                      <p:cBhvr>
                                        <p:cTn id="156" dur="13200" fill="hold"/>
                                        <p:tgtEl>
                                          <p:spTgt spid="5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 repeatCount="indefinite">
                                  <p:stCondLst>
                                    <p:cond delay="2500"/>
                                  </p:stCondLst>
                                  <p:childTnLst>
                                    <p:animRot by="21600000">
                                      <p:cBhvr>
                                        <p:cTn id="158" dur="11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9" presetSubtype="10" repeatCount="indefinite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1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11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 repeatCount="indefinite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96616E-006 1.48148E-006 C 0.01263 0.08611 0.02551 0.17222 0.06273 0.19583 C 0.09943 0.21944 0.15995 0.12222 0.22189 0.14167 C 0.28384 0.16111 0.31078 0.28055 0.43441 0.3125 C 0.55779 0.34444 0.83694 0.25694 0.96252 0.33333 C 1.08798 0.40972 1.12078 0.70903 1.18754 0.77083 E">
                                      <p:cBhvr>
                                        <p:cTn id="164" dur="111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mph" presetID="8" repeatCount="indefinite">
                                  <p:stCondLst>
                                    <p:cond delay="7100"/>
                                  </p:stCondLst>
                                  <p:childTnLst>
                                    <p:animRot by="21600000">
                                      <p:cBhvr>
                                        <p:cTn id="166" dur="14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9" presetSubtype="10" repeatCount="indefinite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4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4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 repeatCount="indefinite">
                                  <p:stCondLst>
                                    <p:cond delay="7100"/>
                                  </p:stCondLst>
                                  <p:childTnLst>
                                    <p:animMotion origin="layout" path="M 1.66667E-006 1.85185E-006 C 0.02847 -0.0669 0.05694 -0.1338 0.11458 -0.05556 C 0.17205 0.02268 0.27014 0.34907 0.34566 0.46944 C 0.42135 0.58981 0.46007 0.64722 0.56875 0.66666 C 0.67743 0.68611 0.87309 0.56713 0.99774 0.58611 C 1.12257 0.60509 1.25573 0.7625 1.31649 0.78055 E">
                                      <p:cBhvr>
                                        <p:cTn id="172" dur="145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mph" presetID="8" repeatCount="indefinite">
                                  <p:stCondLst>
                                    <p:cond delay="1700"/>
                                  </p:stCondLst>
                                  <p:childTnLst>
                                    <p:animRot by="21600000">
                                      <p:cBhvr>
                                        <p:cTn id="174" dur="11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9" presetSubtype="10" repeatCount="indefinite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1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14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path" presetID="0" repeatCount="indefinite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-8.33333E-007 8.51852E-006 C 0.08108 -0.02754 0.16215 -0.05509 0.24167 -0.04444 C 0.32101 -0.03379 0.38368 0.04862 0.47708 0.06389 C 0.57049 0.07917 0.70938 0.03704 0.80208 0.04723 C 0.89479 0.05741 0.96771 0.11297 1.03333 0.12501 C 1.09896 0.13704 1.15417 0.12501 1.19583 0.11945 C 1.2375 0.11389 1.26111 0.08889 1.28333 0.09167 E">
                                      <p:cBhvr>
                                        <p:cTn id="180" dur="114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mph" presetID="8" repeatCount="indefinite">
                                  <p:stCondLst>
                                    <p:cond delay="4800"/>
                                  </p:stCondLst>
                                  <p:childTnLst>
                                    <p:animRot by="21600000">
                                      <p:cBhvr>
                                        <p:cTn id="182" dur="134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9" presetSubtype="10" repeatCount="indefinite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34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4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path" presetID="0" repeatCount="indefinite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2.77778E-007 -2.22222E-006 C 0.03177 0.14143 0.06355 0.28287 0.14167 0.36944 C 0.2198 0.45602 0.37813 0.4162 0.46875 0.51944 C 0.55938 0.62268 0.59827 0.86203 0.68542 0.98889 C 0.77257 1.11574 0.90209 1.22315 0.99167 1.28055 C 1.08125 1.33796 1.175 1.29953 1.22292 1.33333 C 1.27084 1.36713 1.28438 1.46111 1.27917 1.48333 E">
                                      <p:cBhvr>
                                        <p:cTn id="188" dur="134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 repeatCount="indefinite">
                                  <p:stCondLst>
                                    <p:cond delay="5800"/>
                                  </p:stCondLst>
                                  <p:childTnLst>
                                    <p:animRot by="21600000">
                                      <p:cBhvr>
                                        <p:cTn id="190" dur="10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9" presetSubtype="10" repeatCount="indefinite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8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path" presetID="0" repeatCount="indefinite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3.19625E-006 -3.7037E-006 C 0.03189 0.14144 0.06351 0.28287 0.14173 0.36945 C 0.21981 0.45602 0.37819 0.41621 0.46877 0.51945 C 0.55935 0.62269 0.59826 0.86204 0.68545 0.98889 C 0.77252 1.11574 0.90214 1.22315 0.99167 1.28056 C 1.08121 1.33797 1.17504 1.29954 1.22293 1.33334 C 1.27083 1.36713 1.28436 1.46111 1.27915 1.48334 E">
                                      <p:cBhvr>
                                        <p:cTn id="196" dur="108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mph" presetID="8" repeatCount="indefinite">
                                  <p:stCondLst>
                                    <p:cond delay="2600"/>
                                  </p:stCondLst>
                                  <p:childTnLst>
                                    <p:animRot by="21600000">
                                      <p:cBhvr>
                                        <p:cTn id="198" dur="954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9" presetSubtype="10" repeatCount="indefinite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954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54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0" repeatCount="indefinite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-0.0393 -0.02477 C 0.0462 -0.04861 0.13183 -0.07222 0.17946 -0.06111 C 0.22748 -0.05 0.22189 -0.03564 0.24831 0.04167 C 0.27459 0.11898 0.30726 0.29491 0.33784 0.40278 C 0.36843 0.51065 0.33407 0.61667 0.43154 0.68889 C 0.52915 0.76111 0.82262 0.83635 0.92321 0.83611 E">
                                      <p:cBhvr>
                                        <p:cTn id="204" dur="954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8" repeatCount="indefinite">
                                  <p:stCondLst>
                                    <p:cond delay="9700"/>
                                  </p:stCondLst>
                                  <p:childTnLst>
                                    <p:animRot by="21600000">
                                      <p:cBhvr>
                                        <p:cTn id="206" dur="12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9" presetSubtype="10" repeatCount="indefinite">
                                  <p:stCondLst>
                                    <p:cond delay="97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2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9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0" repeatCount="indefinite">
                                  <p:stCondLst>
                                    <p:cond delay="9700"/>
                                  </p:stCondLst>
                                  <p:childTnLst>
                                    <p:animMotion origin="layout" path="M -6.87142E-007 -1.85185E-006 C 0.08329 -0.06666 0.16684 -0.13333 0.26887 -0.14722 C 0.37077 -0.16111 0.49219 -0.07129 0.61244 -0.08333 C 0.73269 -0.09537 0.88925 -0.18796 0.98959 -0.21944 C 1.08993 -0.25092 1.12806 -0.31574 1.2146 -0.27222 C 1.30102 -0.2287 1.44404 -0.03472 1.50833 0.04167 E">
                                      <p:cBhvr>
                                        <p:cTn id="212" dur="129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mph" presetID="8" repeatCount="indefinite">
                                  <p:stCondLst>
                                    <p:cond delay="7400"/>
                                  </p:stCondLst>
                                  <p:childTnLst>
                                    <p:animRot by="21600000">
                                      <p:cBhvr>
                                        <p:cTn id="214" dur="124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9" presetSubtype="10" repeatCount="indefinite">
                                  <p:stCondLst>
                                    <p:cond delay="74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24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4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0" repeatCount="indefinite">
                                  <p:stCondLst>
                                    <p:cond delay="7400"/>
                                  </p:stCondLst>
                                  <p:childTnLst>
                                    <p:animMotion origin="layout" path="M 1.0203E-006 0.00023 C 0.13417 -0.03194 0.26835 -0.06458 0.39159 -0.08032 C 0.51497 -0.09606 0.6101 -0.14167 0.73959 -0.09421 C 0.86895 -0.04653 1.05232 0.0882 1.16879 0.20579 C 1.28501 0.32338 1.37077 0.56829 1.43753 0.61134 E">
                                      <p:cBhvr>
                                        <p:cTn id="220" dur="124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mph" presetID="8" repeatCount="indefinite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222" dur="134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9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34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4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2.78501E-006 0.00163 C 0.13469 -0.00486 0.26887 -0.01111 0.37194 0.02107 C 0.47514 0.05371 0.53696 0.10487 0.61895 0.197 C 0.7008 0.28936 0.77277 0.45163 0.86335 0.57477 C 0.95419 0.69815 1.10307 0.86575 1.16319 0.93658 E">
                                      <p:cBhvr>
                                        <p:cTn id="228" dur="13400" fill="hold"/>
                                        <p:tgtEl>
                                          <p:spTgt spid="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9" presetSubtype="10" repeatCount="indefinite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74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74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mph" presetID="8" repeatCount="indefinite">
                                  <p:stCondLst>
                                    <p:cond delay="9000"/>
                                  </p:stCondLst>
                                  <p:childTnLst>
                                    <p:animRot by="21600000">
                                      <p:cBhvr>
                                        <p:cTn id="234" dur="174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path" presetID="0" repeatCount="indefinite">
                                  <p:stCondLst>
                                    <p:cond delay="9000"/>
                                  </p:stCondLst>
                                  <p:childTnLst>
                                    <p:animMotion origin="layout" path="M 4.52889E-007 -2.96296E-006 C 0.08368 -0.09352 0.16723 -0.18703 0.30258 -0.18333 C 0.43779 -0.17963 0.64146 0.01343 0.81247 0.02223 C 0.98347 0.03102 1.25377 -0.12361 1.32939 -0.13055 E">
                                      <p:cBhvr>
                                        <p:cTn id="236" dur="174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6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6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42" dur="16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12337E-007 1.48148E-006 C 0.26002 -0.13796 0.5203 -0.27593 0.72905 -0.14722 C 0.93779 -0.01852 1.1399 0.57523 1.25195 0.77222 C 1.36426 0.96898 1.37884 0.99583 1.40213 1.03333 E">
                                      <p:cBhvr>
                                        <p:cTn id="244" dur="16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19" presetSubtype="10" repeatCount="indefinite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mph" presetID="8" repeatCount="indefinite">
                                  <p:stCondLst>
                                    <p:cond delay="3400"/>
                                  </p:stCondLst>
                                  <p:childTnLst>
                                    <p:animRot by="21600000">
                                      <p:cBhvr>
                                        <p:cTn id="250" dur="1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path" presetID="0" repeatCount="indefinite">
                                  <p:stCondLst>
                                    <p:cond delay="3400"/>
                                  </p:stCondLst>
                                  <p:childTnLst>
                                    <p:animMotion origin="layout" path="M 4.32067E-007 3.33333E-006 C 0.09917 0.00162 0.42192 0.06643 0.5937 0.00926 C 0.76562 -0.04792 0.90864 -0.32014 1.03123 -0.34352 C 1.15383 -0.3669 1.26718 -0.175 1.32939 -0.13056 E">
                                      <p:cBhvr>
                                        <p:cTn id="252" dur="11000" fill="hold"/>
                                        <p:tgtEl>
                                          <p:spTgt spid="5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9" presetSubtype="10" repeatCount="indefinite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mph" presetID="8" repeatCount="indefinite">
                                  <p:stCondLst>
                                    <p:cond delay="5700"/>
                                  </p:stCondLst>
                                  <p:childTnLst>
                                    <p:animRot by="21600000">
                                      <p:cBhvr>
                                        <p:cTn id="258" dur="1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path" presetID="0" repeatCount="indefinite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2.38938E-006 1.85185E-006 C 0.01562 0.01342 0.06611 0.05509 0.0937 0.08055 C 0.12116 0.10625 0.07653 0.05509 0.16463 0.15278 C 0.25221 0.25046 0.44235 0.62685 0.62064 0.66666 C 0.79867 0.70625 1.10568 0.44884 1.23347 0.39097 E">
                                      <p:cBhvr>
                                        <p:cTn id="260" dur="13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19" presetSubtype="10" repeatCount="indefinite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4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4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mph" presetID="8" repeatCount="indefinite">
                                  <p:stCondLst>
                                    <p:cond delay="8000"/>
                                  </p:stCondLst>
                                  <p:childTnLst>
                                    <p:animRot by="21600000">
                                      <p:cBhvr>
                                        <p:cTn id="266" dur="142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path" presetID="0" repeatCount="indefinite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4.52889E-007 2.96296E-006 C 0.01562 0.01342 0.01913 -0.03588 0.0937 0.08055 C 0.16827 0.19699 0.33069 0.62268 0.4482 0.69884 C 0.56598 0.775 0.65226 0.54097 0.79841 0.53773 C 0.94443 0.53449 1.21577 0.65 1.32548 0.6794 E">
                                      <p:cBhvr>
                                        <p:cTn id="268" dur="14200" fill="hold"/>
                                        <p:tgtEl>
                                          <p:spTgt spid="5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19" presetSubtype="10" repeatCount="indefinite">
                                  <p:stCondLst>
                                    <p:cond delay="67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1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1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mph" presetID="8" repeatCount="indefinite">
                                  <p:stCondLst>
                                    <p:cond delay="6700"/>
                                  </p:stCondLst>
                                  <p:childTnLst>
                                    <p:animRot by="21600000">
                                      <p:cBhvr>
                                        <p:cTn id="274" dur="118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path" presetID="0" repeatCount="indefinite">
                                  <p:stCondLst>
                                    <p:cond delay="6700"/>
                                  </p:stCondLst>
                                  <p:childTnLst>
                                    <p:animMotion origin="layout" path="M -4.86726E-006 0 C 0.01562 0.01343 0.00521000000000001 0.08148 0.09371 0.08056 C 0.18233 0.07963 0.37377 -0.0419 0.53124 -0.00532 C 0.68832 0.03125 0.91359 0.1669 1.03749 0.30023 C 1.16151 0.43333 1.22554 0.69167 1.27499 0.79468 E">
                                      <p:cBhvr>
                                        <p:cTn id="276" dur="118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19" presetSubtype="10" repeatCount="indefinite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3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3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mph" presetID="8" repeatCount="indefinite">
                                  <p:stCondLst>
                                    <p:cond delay="5400"/>
                                  </p:stCondLst>
                                  <p:childTnLst>
                                    <p:animRot by="21600000">
                                      <p:cBhvr>
                                        <p:cTn id="282" dur="138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path" presetID="0" repeatCount="indefinite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3.42009E-006 -3.7037E-006 C 0.0937 0.08473 0.33629 0.38912 0.56234 0.50857 C 0.78839 0.62801 1.20966 0.62084 1.3562 0.7169 C 1.50274 0.81297 1.424 1.00787 1.4417 1.08449 E">
                                      <p:cBhvr>
                                        <p:cTn id="284" dur="138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9" presetSubtype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9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9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mph" presetID="8" repeatCount="indefinite">
                                  <p:stCondLst>
                                    <p:cond delay="7000"/>
                                  </p:stCondLst>
                                  <p:childTnLst>
                                    <p:animRot by="21600000">
                                      <p:cBhvr>
                                        <p:cTn id="290" dur="19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path" presetID="0" repeatCount="indefinite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1.37949E-006 -3.7037E-007 C 0.05557 0.01458 0.23907 -0.0088 0.33264 0.08773 C 0.42621 0.18426 0.38391 0.42153 0.56195 0.5794 C 0.74011 0.73704 1.22696 0.93889 1.40187 1.03333 E">
                                      <p:cBhvr>
                                        <p:cTn id="292" dur="19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9" presetSubtype="10" repeatCount="indefinite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7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7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mph" presetID="8" repeatCount="indefinite">
                                  <p:stCondLst>
                                    <p:cond delay="5300"/>
                                  </p:stCondLst>
                                  <p:childTnLst>
                                    <p:animRot by="21600000">
                                      <p:cBhvr>
                                        <p:cTn id="298" dur="179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path" presetID="0" repeatCount="indefinite">
                                  <p:stCondLst>
                                    <p:cond delay="5300"/>
                                  </p:stCondLst>
                                  <p:childTnLst>
                                    <p:animMotion origin="layout" path="M 2.29568E-006 -2.22222E-006 C 0.05557 0.01459 0.1805 0.09607 0.33264 0.08773 C 0.48477 0.0794 0.77342 -0.08565 0.91306 -0.05046 C 1.05231 -0.01528 1.08784 0.11898 1.16931 0.29954 C 1.25065 0.47986 1.35346 0.88033 1.40187 1.0331 E">
                                      <p:cBhvr>
                                        <p:cTn id="300" dur="179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ntr" presetID="19" presetSubtype="10" repeatCount="indefinite">
                                  <p:stCondLst>
                                    <p:cond delay="72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5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5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mph" presetID="8" repeatCount="indefinite">
                                  <p:stCondLst>
                                    <p:cond delay="7200"/>
                                  </p:stCondLst>
                                  <p:childTnLst>
                                    <p:animRot by="21600000">
                                      <p:cBhvr>
                                        <p:cTn id="306" dur="15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path" presetID="0" repeatCount="indefinite">
                                  <p:stCondLst>
                                    <p:cond delay="7200"/>
                                  </p:stCondLst>
                                  <p:childTnLst>
                                    <p:animMotion origin="layout" path="M -2.26445E-006 2.22222E-006 C 0.117 -0.05023 0.47606 -0.42107 0.70185 -0.30162 C 0.92816 -0.18218 1.23959 0.49444 1.3562 0.7169 C 1.47293 0.93935 1.39251 0.96736 1.40214 1.03333 E">
                                      <p:cBhvr>
                                        <p:cTn id="308" dur="155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9" presetSubtype="10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4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4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mph" presetID="8" repeatCount="indefinite">
                                  <p:stCondLst>
                                    <p:cond delay="2100"/>
                                  </p:stCondLst>
                                  <p:childTnLst>
                                    <p:animRot by="21600000">
                                      <p:cBhvr>
                                        <p:cTn id="314" dur="149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path" presetID="0" repeatCount="indefinite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-9.42218E-007 -2.59259E-006 C 0.1101 0.03287 0.43428 0.07801 0.6602 0.19746 C 0.88652 0.3169 1.23243 0.57755 1.35607 0.7169 C 1.47983 0.85625 1.3925 0.96736 1.40214 1.03334 E">
                                      <p:cBhvr>
                                        <p:cTn id="316" dur="149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19" presetSubtype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7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7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mph" presetID="8" repeatCount="indefinite">
                                  <p:stCondLst>
                                    <p:cond delay="7000"/>
                                  </p:stCondLst>
                                  <p:childTnLst>
                                    <p:animRot by="21600000">
                                      <p:cBhvr>
                                        <p:cTn id="322" dur="171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path" presetID="0" repeatCount="indefinite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4.99219E-006 3.33333E-006 C 0.08732 0.11527 0.29737 0.57245 0.52342 0.69166 C 0.74947 0.81134 1.20419 0.65347 1.35619 0.71666 C 1.50832 0.78032 1.41931 0.99838 1.43597 1.07245 E">
                                      <p:cBhvr>
                                        <p:cTn id="324" dur="171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dur="indefinite" nodeType="withEffect" fill="hold" presetClass="entr" presetID="19" presetSubtype="10" repeatCount="indefinite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 repeatCount="indefinite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30" dur="12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3.73764E-006 -3.7037E-007 C 0.08368 -0.09352 0.16723 -0.18704 0.30258 -0.18333 C 0.4378 -0.17963 0.64147 0.01343 0.81247 0.02222 C 0.98348 0.03102 1.25378 -0.12361 1.32939 -0.13056 E">
                                      <p:cBhvr>
                                        <p:cTn id="332" dur="1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ntr" presetID="19" presetSubtype="10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2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2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338" dur="12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0203E-006 -4.07407E-006 C 0.26015 -0.13796 0.5203 -0.27592 0.72905 -0.14722 C 0.93779 -0.01851 1.1399 0.57547 1.25195 0.77223 C 1.36426 0.96899 1.37884 0.99584 1.40213 1.03334 E">
                                      <p:cBhvr>
                                        <p:cTn id="340" dur="12500" fill="hold"/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19" presetSubtype="10" repeatCount="indefinite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8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8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mph" presetID="8" repeatCount="indefinite">
                                  <p:stCondLst>
                                    <p:cond delay="7000"/>
                                  </p:stCondLst>
                                  <p:childTnLst>
                                    <p:animRot by="21600000">
                                      <p:cBhvr>
                                        <p:cTn id="346" dur="18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path" presetID="0" repeatCount="indefinite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-2.21239E-006 1.48148E-006 C 0.09917 0.00162 0.42192 0.06643 0.5937 0.00926 C 0.76562 -0.04792 0.90864 -0.32014 1.03124 -0.34352 C 1.15383 -0.3669 1.26718 -0.175 1.32939 -0.13056 E">
                                      <p:cBhvr>
                                        <p:cTn id="348" dur="18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19" presetSubtype="10" repeatCount="indefinite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99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99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mph" presetID="8" repeatCount="indefinite">
                                  <p:stCondLst>
                                    <p:cond delay="3000"/>
                                  </p:stCondLst>
                                  <p:childTnLst>
                                    <p:animRot by="21600000">
                                      <p:cBhvr>
                                        <p:cTn id="354" dur="99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1.27538E-006 4.44444E-006 C 0.01562 0.01342 0.06611 0.05509 0.0937 0.08055 C 0.12116 0.10625 0.07652 0.05509 0.16463 0.15277 C 0.25221 0.25046 0.44235 0.62685 0.62064 0.66666 C 0.79867 0.70648 1.10568 0.44884 1.23347 0.39143 E">
                                      <p:cBhvr>
                                        <p:cTn id="356" dur="99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9" presetSubtype="10" repeatCount="indefinite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mph" presetID="8" repeatCount="indefinite">
                                  <p:stCondLst>
                                    <p:cond delay="4000"/>
                                  </p:stCondLst>
                                  <p:childTnLst>
                                    <p:animRot by="21600000">
                                      <p:cBhvr>
                                        <p:cTn id="362" dur="1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1.8532E-006 -3.33333E-006 C 0.01562 0.01343 0.01913 -0.03588 0.0937 0.08056 C 0.16827 0.19653 0.33069 0.62269 0.4482 0.69885 C 0.56598 0.77454 0.65226 0.54098 0.79841 0.53773 C 0.94443 0.53449 1.21577 0.65 1.32548 0.6794 E">
                                      <p:cBhvr>
                                        <p:cTn id="364" dur="11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19" presetSubtype="10" repeatCount="indefinite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33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33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mph" presetID="8" repeatCount="indefinite">
                                  <p:stCondLst>
                                    <p:cond delay="4700"/>
                                  </p:stCondLst>
                                  <p:childTnLst>
                                    <p:animRot by="21600000">
                                      <p:cBhvr>
                                        <p:cTn id="370" dur="133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path" presetID="0" repeatCount="indefinite">
                                  <p:stCondLst>
                                    <p:cond delay="4700"/>
                                  </p:stCondLst>
                                  <p:childTnLst>
                                    <p:animMotion origin="layout" path="M 3.54503E-006 -4.44444E-006 C 0.01561 0.01343 0.0052 0.08149 0.0937 0.08056 C 0.18232 0.07963 0.37376 -0.04189 0.53123 -0.00532 C 0.68831 0.03125 0.91358 0.1669 1.03748 0.30024 C 1.1615 0.43334 1.22553 0.69167 1.27498 0.79468 E">
                                      <p:cBhvr>
                                        <p:cTn id="372" dur="13300" fill="hold"/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9" presetSubtype="10" repeatCount="indefinite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56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mph" presetID="8" repeatCount="indefinite">
                                  <p:stCondLst>
                                    <p:cond delay="6200"/>
                                  </p:stCondLst>
                                  <p:childTnLst>
                                    <p:animRot by="21600000">
                                      <p:cBhvr>
                                        <p:cTn id="378" dur="156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path" presetID="0" repeatCount="indefinite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3.75325E-006 1.85185E-006 C 0.0937 0.08472 0.33628 0.38912 0.56233 0.50856 C 0.78839 0.62801 1.20965 0.62083 1.35619 0.7169 C 1.50273 0.81296 1.42399 1.00787 1.44169 1.08449 E">
                                      <p:cBhvr>
                                        <p:cTn id="380" dur="15600" fill="hold"/>
                                        <p:tgtEl>
                                          <p:spTgt spid="5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19" presetSubtype="10" repeatCount="indefinite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3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3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mph" presetID="8" repeatCount="indefinite">
                                  <p:stCondLst>
                                    <p:cond delay="2800"/>
                                  </p:stCondLst>
                                  <p:childTnLst>
                                    <p:animRot by="21600000">
                                      <p:cBhvr>
                                        <p:cTn id="386" dur="136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path" presetID="0" repeatCount="indefinite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2.5924E-006 1.48148E-006 C 0.05557 0.01458 0.23907 -0.0088 0.33264 0.08773 C 0.42621 0.18426 0.38392 0.42153 0.56195 0.5794 C 0.74011 0.73704 1.22697 0.93889 1.40188 1.03333 E">
                                      <p:cBhvr>
                                        <p:cTn id="388" dur="136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19" presetSubtype="10" repeatCount="indefinite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12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12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mph" presetID="8" repeatCount="indefinite">
                                  <p:stCondLst>
                                    <p:cond delay="6000"/>
                                  </p:stCondLst>
                                  <p:childTnLst>
                                    <p:animRot by="21600000">
                                      <p:cBhvr>
                                        <p:cTn id="394" dur="112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path" presetID="0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4.31026E-006 0 C 0.05557 0.01458 0.1805 0.09606 0.33263 0.08773 C 0.48477 0.0794 0.77303 -0.08565 0.91306 -0.05046 C 1.05192 -0.01528 1.08784 0.11898 1.16931 0.29954 C 1.25065 0.47986 1.35346 0.88032 1.40187 1.03287 E">
                                      <p:cBhvr>
                                        <p:cTn id="396" dur="112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9" presetSubtype="10" repeatCount="indefinite">
                                  <p:stCondLst>
                                    <p:cond delay="4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4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4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mph" presetID="8" repeatCount="indefinite">
                                  <p:stCondLst>
                                    <p:cond delay="4400"/>
                                  </p:stCondLst>
                                  <p:childTnLst>
                                    <p:animRot by="21600000">
                                      <p:cBhvr>
                                        <p:cTn id="402" dur="144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path" presetID="0" repeatCount="indefinite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1.62415E-006 -2.59259E-006 C 0.11699 -0.05023 0.47605 -0.42106 0.70185 -0.30162 C 0.92816 -0.18217 1.23959 0.49445 1.35619 0.7169 C 1.47293 0.93935 1.3925 0.96736 1.40213 1.03334 E">
                                      <p:cBhvr>
                                        <p:cTn id="404" dur="144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9" presetSubtype="10" repeatCount="indefinite">
                                  <p:stCondLst>
                                    <p:cond delay="77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4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4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mph" presetID="8" repeatCount="indefinite">
                                  <p:stCondLst>
                                    <p:cond delay="7700"/>
                                  </p:stCondLst>
                                  <p:childTnLst>
                                    <p:animRot by="21600000">
                                      <p:cBhvr>
                                        <p:cTn id="410" dur="141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path" presetID="0" repeatCount="indefinite">
                                  <p:stCondLst>
                                    <p:cond delay="7700"/>
                                  </p:stCondLst>
                                  <p:childTnLst>
                                    <p:animMotion origin="layout" path="M 1.84279E-006 -2.59259E-006 C 0.1101 0.03287 0.43428 0.07801 0.6602 0.19746 C 0.88652 0.3169 1.23243 0.57755 1.35606 0.7169 C 1.47983 0.85625 1.3925 0.96736 1.40213 1.03334 E">
                                      <p:cBhvr>
                                        <p:cTn id="412" dur="14100" fill="hold"/>
                                        <p:tgtEl>
                                          <p:spTgt spid="5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9" presetSubtype="10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6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mph" presetID="8" repeatCount="indefinite">
                                  <p:stCondLst>
                                    <p:cond delay="3100"/>
                                  </p:stCondLst>
                                  <p:childTnLst>
                                    <p:animRot by="21600000">
                                      <p:cBhvr>
                                        <p:cTn id="418" dur="161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path" presetID="0" repeatCount="indefinite">
                                  <p:stCondLst>
                                    <p:cond delay="3100"/>
                                  </p:stCondLst>
                                  <p:childTnLst>
                                    <p:animMotion origin="layout" path="M 8.43311E-007 3.33333E-006 C 0.08732 0.11527 0.29737 0.57245 0.52342 0.69166 C 0.74948 0.81134 1.20419 0.65347 1.35619 0.71666 C 1.50833 0.78032 1.41931 0.99838 1.43597 1.07245 E">
                                      <p:cBhvr>
                                        <p:cTn id="420" dur="16100" fill="hold"/>
                                        <p:tgtEl>
                                          <p:spTgt spid="5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棱台 4"/>
          <p:cNvSpPr/>
          <p:nvPr/>
        </p:nvSpPr>
        <p:spPr>
          <a:xfrm>
            <a:off x="520560" y="1328760"/>
            <a:ext cx="11152440" cy="5303880"/>
          </a:xfrm>
          <a:prstGeom prst="bevel">
            <a:avLst>
              <a:gd name="adj" fmla="val 2093"/>
            </a:avLst>
          </a:prstGeom>
          <a:solidFill>
            <a:srgbClr val="b6ddc8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1846440" y="1781280"/>
            <a:ext cx="8502480" cy="62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Times New Roman"/>
                <a:ea typeface="楷体_GB2312"/>
              </a:rPr>
              <a:t>谷（        ）   粒（        ）   城（        ）各（        ）   位（        ）   诚（        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Times New Roman"/>
                <a:ea typeface="楷体_GB2312"/>
              </a:rPr>
              <a:t>灰（        ）   雀（        ）   惜（        ）灭（        ）   省（        ）   错（        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7f7f7f"/>
                </a:solidFill>
                <a:uFillTx/>
                <a:latin typeface="Times New Roman"/>
                <a:ea typeface="楷体_GB2312"/>
              </a:rPr>
              <a:t>冷（        ）   老（        ）   实（        ）冻（        ）   者（        ）   突（        ）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68" name="组合 2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769" name="图片 10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TextBox 76"/>
            <p:cNvSpPr/>
            <p:nvPr/>
          </p:nvSpPr>
          <p:spPr>
            <a:xfrm>
              <a:off x="177840" y="228600"/>
              <a:ext cx="230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随堂练习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71" name="文本框 1"/>
          <p:cNvSpPr/>
          <p:nvPr/>
        </p:nvSpPr>
        <p:spPr>
          <a:xfrm>
            <a:off x="3105360" y="17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稻谷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2" name="文本框 3"/>
          <p:cNvSpPr/>
          <p:nvPr/>
        </p:nvSpPr>
        <p:spPr>
          <a:xfrm>
            <a:off x="3105360" y="242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各自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3" name="文本框 5"/>
          <p:cNvSpPr/>
          <p:nvPr/>
        </p:nvSpPr>
        <p:spPr>
          <a:xfrm>
            <a:off x="6065640" y="17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果粒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4" name="文本框 6"/>
          <p:cNvSpPr/>
          <p:nvPr/>
        </p:nvSpPr>
        <p:spPr>
          <a:xfrm>
            <a:off x="6065640" y="242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座位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5" name="文本框 7"/>
          <p:cNvSpPr/>
          <p:nvPr/>
        </p:nvSpPr>
        <p:spPr>
          <a:xfrm>
            <a:off x="8995320" y="1781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城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6" name="文本框 8"/>
          <p:cNvSpPr/>
          <p:nvPr/>
        </p:nvSpPr>
        <p:spPr>
          <a:xfrm>
            <a:off x="8995320" y="2425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诚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7" name="文本框 9"/>
          <p:cNvSpPr/>
          <p:nvPr/>
        </p:nvSpPr>
        <p:spPr>
          <a:xfrm>
            <a:off x="3105360" y="3298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灰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8" name="文本框 12"/>
          <p:cNvSpPr/>
          <p:nvPr/>
        </p:nvSpPr>
        <p:spPr>
          <a:xfrm>
            <a:off x="3105360" y="3944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消灭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79" name="文本框 13"/>
          <p:cNvSpPr/>
          <p:nvPr/>
        </p:nvSpPr>
        <p:spPr>
          <a:xfrm>
            <a:off x="6065640" y="3298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麻雀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0" name="文本框 14"/>
          <p:cNvSpPr/>
          <p:nvPr/>
        </p:nvSpPr>
        <p:spPr>
          <a:xfrm>
            <a:off x="6065640" y="3944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省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1" name="文本框 16"/>
          <p:cNvSpPr/>
          <p:nvPr/>
        </p:nvSpPr>
        <p:spPr>
          <a:xfrm>
            <a:off x="8995320" y="3298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可惜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2" name="文本框 17"/>
          <p:cNvSpPr/>
          <p:nvPr/>
        </p:nvSpPr>
        <p:spPr>
          <a:xfrm>
            <a:off x="8995320" y="3944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错误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3" name="文本框 18"/>
          <p:cNvSpPr/>
          <p:nvPr/>
        </p:nvSpPr>
        <p:spPr>
          <a:xfrm>
            <a:off x="3105360" y="481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寒冷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4" name="文本框 19"/>
          <p:cNvSpPr/>
          <p:nvPr/>
        </p:nvSpPr>
        <p:spPr>
          <a:xfrm>
            <a:off x="3105360" y="546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冰冻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5" name="文本框 20"/>
          <p:cNvSpPr/>
          <p:nvPr/>
        </p:nvSpPr>
        <p:spPr>
          <a:xfrm>
            <a:off x="6065640" y="481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老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6" name="文本框 21"/>
          <p:cNvSpPr/>
          <p:nvPr/>
        </p:nvSpPr>
        <p:spPr>
          <a:xfrm>
            <a:off x="6065640" y="546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或者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7" name="文本框 22"/>
          <p:cNvSpPr/>
          <p:nvPr/>
        </p:nvSpPr>
        <p:spPr>
          <a:xfrm>
            <a:off x="8995320" y="4819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结实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88" name="文本框 23"/>
          <p:cNvSpPr/>
          <p:nvPr/>
        </p:nvSpPr>
        <p:spPr>
          <a:xfrm>
            <a:off x="8995320" y="54640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突然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8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矩形 2"/>
          <p:cNvSpPr/>
          <p:nvPr/>
        </p:nvSpPr>
        <p:spPr>
          <a:xfrm>
            <a:off x="569880" y="1219320"/>
            <a:ext cx="11273040" cy="952560"/>
          </a:xfrm>
          <a:prstGeom prst="rect">
            <a:avLst/>
          </a:prstGeom>
          <a:solidFill>
            <a:srgbClr val="e7e6ed">
              <a:alpha val="50000"/>
            </a:srgbClr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0" name="文本框 32"/>
          <p:cNvSpPr/>
          <p:nvPr/>
        </p:nvSpPr>
        <p:spPr>
          <a:xfrm>
            <a:off x="533520" y="1244520"/>
            <a:ext cx="11126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分角色朗读课文，读出对话的语气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91" name="组合 4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792" name="图片 6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TextBox 76"/>
            <p:cNvSpPr/>
            <p:nvPr/>
          </p:nvSpPr>
          <p:spPr>
            <a:xfrm>
              <a:off x="177840" y="228600"/>
              <a:ext cx="230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课后习题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94" name="文本框 7"/>
          <p:cNvSpPr/>
          <p:nvPr/>
        </p:nvSpPr>
        <p:spPr>
          <a:xfrm>
            <a:off x="851040" y="2744640"/>
            <a:ext cx="104900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朗读提示：列宁的话要读得温和亲切，读出关爱的语气，小男孩的话要读出羞愧和紧张不安的语气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7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矩形 2"/>
          <p:cNvSpPr/>
          <p:nvPr/>
        </p:nvSpPr>
        <p:spPr>
          <a:xfrm>
            <a:off x="569880" y="1219320"/>
            <a:ext cx="11273040" cy="1582560"/>
          </a:xfrm>
          <a:prstGeom prst="rect">
            <a:avLst/>
          </a:prstGeom>
          <a:solidFill>
            <a:srgbClr val="e7e6ed">
              <a:alpha val="50000"/>
            </a:srgbClr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6" name="文本框 32"/>
          <p:cNvSpPr/>
          <p:nvPr/>
        </p:nvSpPr>
        <p:spPr>
          <a:xfrm>
            <a:off x="533520" y="1244520"/>
            <a:ext cx="1112652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默读课文，想一想，列宁和小男孩在对话的时候，他们各自心里想的是什么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7" name="文本框 3"/>
          <p:cNvSpPr/>
          <p:nvPr/>
        </p:nvSpPr>
        <p:spPr>
          <a:xfrm>
            <a:off x="463680" y="3108240"/>
            <a:ext cx="1126476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列宁和小男孩对话时，列宁可能会想：我一定要找一个既不伤害小男孩自尊，又能让小男孩承认错误救出灰雀的办法。小男孩可能会想：我知道错了，我会把灰雀放回来的，但是不能让列宁知道，他一定会责备我的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矩形 2"/>
          <p:cNvSpPr/>
          <p:nvPr/>
        </p:nvSpPr>
        <p:spPr>
          <a:xfrm>
            <a:off x="430200" y="160200"/>
            <a:ext cx="8620200" cy="1582920"/>
          </a:xfrm>
          <a:prstGeom prst="rect">
            <a:avLst/>
          </a:prstGeom>
          <a:solidFill>
            <a:srgbClr val="e7e6ed">
              <a:alpha val="50000"/>
            </a:srgbClr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9" name="文本框 32"/>
          <p:cNvSpPr/>
          <p:nvPr/>
        </p:nvSpPr>
        <p:spPr>
          <a:xfrm>
            <a:off x="393840" y="266760"/>
            <a:ext cx="85089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3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从哪里能看出列宁和小男孩都很喜欢灰雀？找出相关的语句读一读，然后和同学交流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728640" y="1969920"/>
            <a:ext cx="111967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列宁自言自语地说：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多好的灰雀呀，可惜再也飞不回来了。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”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男孩看看列宁，说：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会飞回来的，一定会飞回来的。它还活着。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”   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列宁问：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会飞回来？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”  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 “</a:t>
            </a: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一定会飞回来！</a:t>
            </a:r>
            <a:r>
              <a:rPr b="0" i="1" lang="en-US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254061"/>
                </a:solidFill>
                <a:uFillTx/>
                <a:latin typeface="宋体"/>
                <a:ea typeface="宋体"/>
              </a:rPr>
              <a:t>男孩肯定地说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1" name="文本框 7"/>
          <p:cNvSpPr/>
          <p:nvPr/>
        </p:nvSpPr>
        <p:spPr>
          <a:xfrm>
            <a:off x="379440" y="4471920"/>
            <a:ext cx="113155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从这里可以看出列宁找不到灰雀十分失望，</a:t>
            </a: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多好</a:t>
            </a: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”“</a:t>
            </a: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可惜</a:t>
            </a: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可以看出列宁十分喜爱灰雀。小男孩多次强调</a:t>
            </a: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一定会飞回来</a:t>
            </a:r>
            <a:r>
              <a:rPr b="0" i="1" lang="en-US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800" spc="-1" strike="noStrike" u="sng">
                <a:solidFill>
                  <a:srgbClr val="c00000"/>
                </a:solidFill>
                <a:uFillTx/>
                <a:latin typeface="宋体"/>
                <a:ea typeface="宋体"/>
              </a:rPr>
              <a:t>也是他对列宁的承诺，他喜欢灰雀，所以愿意放了灰雀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图文框 1"/>
          <p:cNvSpPr/>
          <p:nvPr/>
        </p:nvSpPr>
        <p:spPr>
          <a:xfrm>
            <a:off x="406440" y="1096920"/>
            <a:ext cx="11379240" cy="5478480"/>
          </a:xfrm>
          <a:custGeom>
            <a:avLst/>
            <a:gdLst/>
            <a:ahLst/>
            <a:rect l="l" t="t" r="r" b="b"/>
            <a:pathLst>
              <a:path w="11379200" h="5478462">
                <a:moveTo>
                  <a:pt x="0" y="0"/>
                </a:moveTo>
                <a:lnTo>
                  <a:pt x="11379200" y="0"/>
                </a:lnTo>
                <a:lnTo>
                  <a:pt x="11379200" y="5478462"/>
                </a:lnTo>
                <a:lnTo>
                  <a:pt x="0" y="5478462"/>
                </a:lnTo>
                <a:close/>
                <a:moveTo>
                  <a:pt x="95599" y="95599"/>
                </a:moveTo>
                <a:lnTo>
                  <a:pt x="95599" y="5382863"/>
                </a:lnTo>
                <a:lnTo>
                  <a:pt x="11283600" y="5382863"/>
                </a:lnTo>
                <a:lnTo>
                  <a:pt x="11283600" y="95599"/>
                </a:lnTo>
                <a:close/>
              </a:path>
            </a:pathLst>
          </a:cu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803" name="组合 4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804" name="图片 6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5" name="TextBox 76"/>
            <p:cNvSpPr/>
            <p:nvPr/>
          </p:nvSpPr>
          <p:spPr>
            <a:xfrm>
              <a:off x="177840" y="228600"/>
              <a:ext cx="2306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积累拓展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806" name="文本框 32"/>
          <p:cNvSpPr/>
          <p:nvPr/>
        </p:nvSpPr>
        <p:spPr>
          <a:xfrm>
            <a:off x="1989000" y="1392120"/>
            <a:ext cx="401184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鸟</a:t>
            </a:r>
            <a:r>
              <a:rPr b="0" i="1" lang="zh-CN" sz="4800" spc="-1" strike="noStrike" u="sng" baseline="-25000">
                <a:solidFill>
                  <a:srgbClr val="000000"/>
                </a:solidFill>
                <a:uFillTx/>
                <a:latin typeface="楷体"/>
                <a:ea typeface="楷体"/>
              </a:rPr>
              <a:t> </a:t>
            </a:r>
            <a:r>
              <a:rPr b="0" i="1" lang="en-US" sz="4800" spc="-1" strike="noStrike" u="sng" baseline="-25000">
                <a:solidFill>
                  <a:srgbClr val="000000"/>
                </a:solidFill>
                <a:uFillTx/>
                <a:latin typeface="楷体"/>
                <a:ea typeface="楷体"/>
              </a:rPr>
              <a:t>[</a:t>
            </a:r>
            <a:r>
              <a:rPr b="0" i="1" lang="zh-CN" sz="4800" spc="-1" strike="noStrike" u="sng" baseline="-25000">
                <a:solidFill>
                  <a:srgbClr val="000000"/>
                </a:solidFill>
                <a:uFillTx/>
                <a:latin typeface="楷体"/>
                <a:ea typeface="楷体"/>
              </a:rPr>
              <a:t>唐</a:t>
            </a:r>
            <a:r>
              <a:rPr b="0" i="1" lang="en-US" sz="4800" spc="-1" strike="noStrike" u="sng" baseline="-25000">
                <a:solidFill>
                  <a:srgbClr val="000000"/>
                </a:solidFill>
                <a:uFillTx/>
                <a:latin typeface="楷体"/>
                <a:ea typeface="楷体"/>
              </a:rPr>
              <a:t>]</a:t>
            </a:r>
            <a:r>
              <a:rPr b="0" i="1" lang="zh-CN" sz="4800" spc="-1" strike="noStrike" u="sng" baseline="-25000">
                <a:solidFill>
                  <a:srgbClr val="000000"/>
                </a:solidFill>
                <a:uFillTx/>
                <a:latin typeface="楷体"/>
                <a:ea typeface="楷体"/>
              </a:rPr>
              <a:t>白居易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7" name="文本框 2"/>
          <p:cNvSpPr/>
          <p:nvPr/>
        </p:nvSpPr>
        <p:spPr>
          <a:xfrm>
            <a:off x="1112760" y="2630520"/>
            <a:ext cx="4748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谁道群生性命微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一般骨肉一般皮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劝君莫打枝头鸟，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子在巢中望母归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08" name="文本框 3"/>
          <p:cNvSpPr/>
          <p:nvPr/>
        </p:nvSpPr>
        <p:spPr>
          <a:xfrm>
            <a:off x="6278400" y="2630520"/>
            <a:ext cx="47498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译文：谁说这群小鸟的生命微小，它们与所有的生命一样都有血有肉。劝你不要打枝头的鸟，幼鸟正在巢中等候着母亲回来。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图片 2" descr=""/>
          <p:cNvPicPr/>
          <p:nvPr/>
        </p:nvPicPr>
        <p:blipFill>
          <a:blip r:embed="rId1"/>
          <a:stretch/>
        </p:blipFill>
        <p:spPr>
          <a:xfrm>
            <a:off x="157320" y="942840"/>
            <a:ext cx="11880720" cy="58388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3"/>
          <p:cNvSpPr/>
          <p:nvPr/>
        </p:nvSpPr>
        <p:spPr>
          <a:xfrm>
            <a:off x="1407960" y="1738440"/>
            <a:ext cx="9375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认识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宁、惹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0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个生字，会写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“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灰、雀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”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等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个生字。正确读写本课的重点词语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正确、流利、有感情地朗读课文，了解课文的主要内容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通过人物的对话描写，体会人物的心理活动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6" name="组合 1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567" name="图片 8" descr="PPT图标青色"/>
            <p:cNvPicPr/>
            <p:nvPr/>
          </p:nvPicPr>
          <p:blipFill>
            <a:blip r:embed="rId2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学习目标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Oval 2"/>
          <p:cNvSpPr/>
          <p:nvPr/>
        </p:nvSpPr>
        <p:spPr>
          <a:xfrm>
            <a:off x="976320" y="1241280"/>
            <a:ext cx="3168720" cy="4392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Text Box 3"/>
          <p:cNvSpPr/>
          <p:nvPr/>
        </p:nvSpPr>
        <p:spPr>
          <a:xfrm>
            <a:off x="522360" y="5794200"/>
            <a:ext cx="4075200" cy="642600"/>
          </a:xfrm>
          <a:prstGeom prst="rect">
            <a:avLst/>
          </a:prstGeom>
          <a:blipFill rotWithShape="0">
            <a:blip r:embed="rId2">
              <a:alphaModFix amt="3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列宁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（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1870-1924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）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5189400" y="1735200"/>
            <a:ext cx="6343920" cy="947160"/>
          </a:xfrm>
          <a:prstGeom prst="rect">
            <a:avLst/>
          </a:prstGeom>
          <a:solidFill>
            <a:srgbClr val="b2d873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    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全世界无产阶级的革命导师和领袖，继承和发展了马克思主义，俄国共产党和苏维埃社会主义共和国联盟的主要创建人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72" name="组合 1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573" name="图片 8" descr="PPT图标青色"/>
            <p:cNvPicPr/>
            <p:nvPr/>
          </p:nvPicPr>
          <p:blipFill>
            <a:blip r:embed="rId3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走进作者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组合 2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576" name="图片 4" descr="PPT图标青色"/>
            <p:cNvPicPr/>
            <p:nvPr/>
          </p:nvPicPr>
          <p:blipFill>
            <a:blip r:embed="rId1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知识锦囊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78" name="图片 5" descr=""/>
          <p:cNvPicPr/>
          <p:nvPr/>
        </p:nvPicPr>
        <p:blipFill>
          <a:blip r:embed="rId2"/>
          <a:stretch/>
        </p:blipFill>
        <p:spPr>
          <a:xfrm>
            <a:off x="6867360" y="1749600"/>
            <a:ext cx="5048280" cy="4298760"/>
          </a:xfrm>
          <a:prstGeom prst="rect">
            <a:avLst/>
          </a:prstGeom>
          <a:ln w="0">
            <a:noFill/>
          </a:ln>
        </p:spPr>
      </p:pic>
      <p:sp>
        <p:nvSpPr>
          <p:cNvPr id="579" name="TextBox 6"/>
          <p:cNvSpPr/>
          <p:nvPr/>
        </p:nvSpPr>
        <p:spPr>
          <a:xfrm>
            <a:off x="316080" y="1087560"/>
            <a:ext cx="6553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灰雀：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小型鸣禽，体形如雀，羽色多样，鸣叫悦耳，可为笼养观赏。群居在河谷、溪流、树林中。食物为桦树、榆树、柳树的嫩叶和种子。课文中说的灰雀是红腹灰雀。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ransition spd="med">
    <p:fade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图片 3" descr=""/>
          <p:cNvPicPr/>
          <p:nvPr/>
        </p:nvPicPr>
        <p:blipFill>
          <a:blip r:embed="rId1"/>
          <a:stretch/>
        </p:blipFill>
        <p:spPr>
          <a:xfrm>
            <a:off x="157320" y="1150920"/>
            <a:ext cx="11880720" cy="5557680"/>
          </a:xfrm>
          <a:prstGeom prst="rect">
            <a:avLst/>
          </a:prstGeom>
          <a:ln w="0">
            <a:noFill/>
          </a:ln>
        </p:spPr>
      </p:pic>
      <p:sp>
        <p:nvSpPr>
          <p:cNvPr id="581" name="文本框 32"/>
          <p:cNvSpPr/>
          <p:nvPr/>
        </p:nvSpPr>
        <p:spPr>
          <a:xfrm>
            <a:off x="1062000" y="2093760"/>
            <a:ext cx="99219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1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自由读，要求读准字音，读通句子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2" name="文本框 1"/>
          <p:cNvSpPr/>
          <p:nvPr/>
        </p:nvSpPr>
        <p:spPr>
          <a:xfrm>
            <a:off x="1062000" y="3321000"/>
            <a:ext cx="10742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2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和同桌合作读，注意读出感情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文本框 2"/>
          <p:cNvSpPr/>
          <p:nvPr/>
        </p:nvSpPr>
        <p:spPr>
          <a:xfrm>
            <a:off x="1062000" y="4548240"/>
            <a:ext cx="107427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3.</a:t>
            </a: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默读，标注出重点语句和不懂的地方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4" name="组合 4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585" name="图片 5" descr="PPT图标青色"/>
            <p:cNvPicPr/>
            <p:nvPr/>
          </p:nvPicPr>
          <p:blipFill>
            <a:blip r:embed="rId2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初读课文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图片 8" descr=""/>
          <p:cNvPicPr/>
          <p:nvPr/>
        </p:nvPicPr>
        <p:blipFill>
          <a:blip r:embed="rId1"/>
          <a:srcRect l="16103" t="26551" r="17980" b="27384"/>
          <a:stretch/>
        </p:blipFill>
        <p:spPr>
          <a:xfrm>
            <a:off x="214200" y="863640"/>
            <a:ext cx="11642760" cy="5921280"/>
          </a:xfrm>
          <a:prstGeom prst="rect">
            <a:avLst/>
          </a:prstGeom>
          <a:ln w="0">
            <a:noFill/>
          </a:ln>
        </p:spPr>
      </p:pic>
      <p:sp>
        <p:nvSpPr>
          <p:cNvPr id="588" name="文本框 1"/>
          <p:cNvSpPr/>
          <p:nvPr/>
        </p:nvSpPr>
        <p:spPr>
          <a:xfrm>
            <a:off x="844560" y="1878120"/>
            <a:ext cx="2006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列</a:t>
            </a: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宁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9" name="文本框 3"/>
          <p:cNvSpPr/>
          <p:nvPr/>
        </p:nvSpPr>
        <p:spPr>
          <a:xfrm>
            <a:off x="5891040" y="1878120"/>
            <a:ext cx="19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或者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0" name="文本框 32"/>
          <p:cNvSpPr/>
          <p:nvPr/>
        </p:nvSpPr>
        <p:spPr>
          <a:xfrm>
            <a:off x="844560" y="3622680"/>
            <a:ext cx="197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可</a:t>
            </a: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惜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1" name="文本框 43"/>
          <p:cNvSpPr/>
          <p:nvPr/>
        </p:nvSpPr>
        <p:spPr>
          <a:xfrm>
            <a:off x="8380440" y="3622680"/>
            <a:ext cx="263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面包</a:t>
            </a: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渣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文本框 44"/>
          <p:cNvSpPr/>
          <p:nvPr/>
        </p:nvSpPr>
        <p:spPr>
          <a:xfrm>
            <a:off x="846000" y="5354640"/>
            <a:ext cx="200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婉转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3" name="文本框 45"/>
          <p:cNvSpPr/>
          <p:nvPr/>
        </p:nvSpPr>
        <p:spPr>
          <a:xfrm>
            <a:off x="3265560" y="1878120"/>
            <a:ext cx="199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仰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望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4" name="文本框 47"/>
          <p:cNvSpPr/>
          <p:nvPr/>
        </p:nvSpPr>
        <p:spPr>
          <a:xfrm>
            <a:off x="8045280" y="1878120"/>
            <a:ext cx="33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惹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人喜爱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5" name="文本框 48"/>
          <p:cNvSpPr/>
          <p:nvPr/>
        </p:nvSpPr>
        <p:spPr>
          <a:xfrm>
            <a:off x="5891040" y="3622680"/>
            <a:ext cx="1968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ff0000"/>
                </a:solidFill>
                <a:uFillTx/>
                <a:latin typeface="汉仪中楷简"/>
                <a:ea typeface="汉仪中楷简"/>
              </a:rPr>
              <a:t>胸脯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文本框 50"/>
          <p:cNvSpPr/>
          <p:nvPr/>
        </p:nvSpPr>
        <p:spPr>
          <a:xfrm>
            <a:off x="3265560" y="3622680"/>
            <a:ext cx="199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诚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实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文本框 51"/>
          <p:cNvSpPr/>
          <p:nvPr/>
        </p:nvSpPr>
        <p:spPr>
          <a:xfrm>
            <a:off x="8045280" y="5354640"/>
            <a:ext cx="330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欢蹦乱跳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文本框 53"/>
          <p:cNvSpPr/>
          <p:nvPr/>
        </p:nvSpPr>
        <p:spPr>
          <a:xfrm>
            <a:off x="1224000" y="129384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ní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9" name="文本框 54"/>
          <p:cNvSpPr/>
          <p:nvPr/>
        </p:nvSpPr>
        <p:spPr>
          <a:xfrm>
            <a:off x="2963880" y="1293840"/>
            <a:ext cx="166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yǎ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0" name="文本框 55"/>
          <p:cNvSpPr/>
          <p:nvPr/>
        </p:nvSpPr>
        <p:spPr>
          <a:xfrm>
            <a:off x="5519880" y="1293840"/>
            <a:ext cx="240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huò zh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1" name="文本框 56"/>
          <p:cNvSpPr/>
          <p:nvPr/>
        </p:nvSpPr>
        <p:spPr>
          <a:xfrm>
            <a:off x="1255680" y="3036960"/>
            <a:ext cx="167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xī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2" name="文本框 57"/>
          <p:cNvSpPr/>
          <p:nvPr/>
        </p:nvSpPr>
        <p:spPr>
          <a:xfrm>
            <a:off x="9543960" y="3036960"/>
            <a:ext cx="16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zhā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3" name="文本框 58"/>
          <p:cNvSpPr/>
          <p:nvPr/>
        </p:nvSpPr>
        <p:spPr>
          <a:xfrm>
            <a:off x="455760" y="4759200"/>
            <a:ext cx="16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wǎn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4" name="文本框 60"/>
          <p:cNvSpPr/>
          <p:nvPr/>
        </p:nvSpPr>
        <p:spPr>
          <a:xfrm>
            <a:off x="2957400" y="3036960"/>
            <a:ext cx="16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chéng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5" name="文本框 61"/>
          <p:cNvSpPr/>
          <p:nvPr/>
        </p:nvSpPr>
        <p:spPr>
          <a:xfrm>
            <a:off x="5276880" y="3036960"/>
            <a:ext cx="260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xiōng pú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6" name="文本框 64"/>
          <p:cNvSpPr/>
          <p:nvPr/>
        </p:nvSpPr>
        <p:spPr>
          <a:xfrm>
            <a:off x="8168400" y="1293840"/>
            <a:ext cx="63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 u="sng">
                <a:solidFill>
                  <a:srgbClr val="7030a0"/>
                </a:solidFill>
                <a:uFillTx/>
                <a:latin typeface="宋体"/>
                <a:ea typeface="宋体"/>
              </a:rPr>
              <a:t>r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7" name="文本框 4"/>
          <p:cNvSpPr/>
          <p:nvPr/>
        </p:nvSpPr>
        <p:spPr>
          <a:xfrm>
            <a:off x="3592440" y="535464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汉仪中楷简"/>
                <a:ea typeface="汉仪中楷简"/>
              </a:rPr>
              <a:t>自言自语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8" name="组合 2"/>
          <p:cNvGrpSpPr/>
          <p:nvPr/>
        </p:nvGrpSpPr>
        <p:grpSpPr>
          <a:xfrm>
            <a:off x="177840" y="228600"/>
            <a:ext cx="3227400" cy="714240"/>
            <a:chOff x="177840" y="228600"/>
            <a:chExt cx="3227400" cy="714240"/>
          </a:xfrm>
        </p:grpSpPr>
        <p:pic>
          <p:nvPicPr>
            <p:cNvPr id="609" name="图片 10" descr="PPT图标青色"/>
            <p:cNvPicPr/>
            <p:nvPr/>
          </p:nvPicPr>
          <p:blipFill>
            <a:blip r:embed="rId2"/>
            <a:srcRect l="14609" t="0" r="0" b="0"/>
            <a:stretch/>
          </p:blipFill>
          <p:spPr>
            <a:xfrm>
              <a:off x="177840" y="228600"/>
              <a:ext cx="322740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76"/>
            <p:cNvSpPr/>
            <p:nvPr/>
          </p:nvSpPr>
          <p:spPr>
            <a:xfrm>
              <a:off x="177840" y="228600"/>
              <a:ext cx="230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4000" spc="-1" strike="noStrike" u="sng">
                  <a:solidFill>
                    <a:srgbClr val="000000"/>
                  </a:solidFill>
                  <a:uFillTx/>
                  <a:latin typeface="Calibri"/>
                  <a:ea typeface="宋体"/>
                </a:rPr>
                <a:t>字词学习</a:t>
              </a:r>
              <a:endParaRPr b="0" i="1" lang="en-US" sz="4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圆角矩形 55"/>
          <p:cNvSpPr/>
          <p:nvPr/>
        </p:nvSpPr>
        <p:spPr>
          <a:xfrm>
            <a:off x="7326360" y="3639960"/>
            <a:ext cx="4444920" cy="3048120"/>
          </a:xfrm>
          <a:prstGeom prst="roundRect">
            <a:avLst>
              <a:gd name="adj" fmla="val 16667"/>
            </a:avLst>
          </a:prstGeom>
          <a:solidFill>
            <a:srgbClr val="ebe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圆角矩形 53"/>
          <p:cNvSpPr/>
          <p:nvPr/>
        </p:nvSpPr>
        <p:spPr>
          <a:xfrm>
            <a:off x="436680" y="3639960"/>
            <a:ext cx="6235560" cy="3048120"/>
          </a:xfrm>
          <a:prstGeom prst="roundRect">
            <a:avLst>
              <a:gd name="adj" fmla="val 16667"/>
            </a:avLst>
          </a:prstGeom>
          <a:solidFill>
            <a:srgbClr val="e7e6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圆角矩形 51"/>
          <p:cNvSpPr/>
          <p:nvPr/>
        </p:nvSpPr>
        <p:spPr>
          <a:xfrm>
            <a:off x="436680" y="317520"/>
            <a:ext cx="7759440" cy="3048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4" name="文本框 43"/>
          <p:cNvSpPr/>
          <p:nvPr/>
        </p:nvSpPr>
        <p:spPr>
          <a:xfrm>
            <a:off x="719280" y="522360"/>
            <a:ext cx="12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jiāo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5" name="文本框 68"/>
          <p:cNvSpPr/>
          <p:nvPr/>
        </p:nvSpPr>
        <p:spPr>
          <a:xfrm>
            <a:off x="1962000" y="2538360"/>
            <a:ext cx="3183120" cy="6426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构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6" name="文本框 50"/>
          <p:cNvSpPr/>
          <p:nvPr/>
        </p:nvSpPr>
        <p:spPr>
          <a:xfrm>
            <a:off x="1706400" y="52236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fě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7" name="文本框 52"/>
          <p:cNvSpPr/>
          <p:nvPr/>
        </p:nvSpPr>
        <p:spPr>
          <a:xfrm>
            <a:off x="2754360" y="52236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lì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文本框 54"/>
          <p:cNvSpPr/>
          <p:nvPr/>
        </p:nvSpPr>
        <p:spPr>
          <a:xfrm>
            <a:off x="3814920" y="522360"/>
            <a:ext cx="14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dò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文本框 16"/>
          <p:cNvSpPr/>
          <p:nvPr/>
        </p:nvSpPr>
        <p:spPr>
          <a:xfrm>
            <a:off x="4878360" y="522360"/>
            <a:ext cx="149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xī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0" name="文本框 21"/>
          <p:cNvSpPr/>
          <p:nvPr/>
        </p:nvSpPr>
        <p:spPr>
          <a:xfrm>
            <a:off x="2718000" y="24764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左右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文本框 24"/>
          <p:cNvSpPr/>
          <p:nvPr/>
        </p:nvSpPr>
        <p:spPr>
          <a:xfrm>
            <a:off x="1090440" y="37242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uè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2" name="文本框 25"/>
          <p:cNvSpPr/>
          <p:nvPr/>
        </p:nvSpPr>
        <p:spPr>
          <a:xfrm>
            <a:off x="1962000" y="5786280"/>
            <a:ext cx="3183120" cy="6426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构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文本框 28"/>
          <p:cNvSpPr/>
          <p:nvPr/>
        </p:nvSpPr>
        <p:spPr>
          <a:xfrm>
            <a:off x="2201760" y="37242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yǎ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4" name="文本框 31"/>
          <p:cNvSpPr/>
          <p:nvPr/>
        </p:nvSpPr>
        <p:spPr>
          <a:xfrm>
            <a:off x="3282840" y="37242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á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5" name="文本框 35"/>
          <p:cNvSpPr/>
          <p:nvPr/>
        </p:nvSpPr>
        <p:spPr>
          <a:xfrm>
            <a:off x="4386240" y="37242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kě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文本框 36"/>
          <p:cNvSpPr/>
          <p:nvPr/>
        </p:nvSpPr>
        <p:spPr>
          <a:xfrm>
            <a:off x="2751120" y="5724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上下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文本框 37"/>
          <p:cNvSpPr/>
          <p:nvPr/>
        </p:nvSpPr>
        <p:spPr>
          <a:xfrm>
            <a:off x="7956720" y="5743440"/>
            <a:ext cx="3181320" cy="642600"/>
          </a:xfrm>
          <a:prstGeom prst="rect">
            <a:avLst/>
          </a:prstGeom>
          <a:solidFill>
            <a:srgbClr val="f9f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结构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8" name="文本框 56"/>
          <p:cNvSpPr/>
          <p:nvPr/>
        </p:nvSpPr>
        <p:spPr>
          <a:xfrm>
            <a:off x="8585280" y="5681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c00000"/>
                </a:solidFill>
                <a:uFillTx/>
                <a:latin typeface="汉仪中楷简"/>
                <a:ea typeface="汉仪中楷简"/>
              </a:rPr>
              <a:t>半包围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9" name="组合 57"/>
          <p:cNvGrpSpPr/>
          <p:nvPr/>
        </p:nvGrpSpPr>
        <p:grpSpPr>
          <a:xfrm>
            <a:off x="1287360" y="4370400"/>
            <a:ext cx="4400640" cy="1111320"/>
            <a:chOff x="1287360" y="4370400"/>
            <a:chExt cx="4400640" cy="1111320"/>
          </a:xfrm>
        </p:grpSpPr>
        <p:pic>
          <p:nvPicPr>
            <p:cNvPr id="630" name="图片 46" descr=""/>
            <p:cNvPicPr/>
            <p:nvPr/>
          </p:nvPicPr>
          <p:blipFill>
            <a:blip r:embed="rId1"/>
            <a:stretch/>
          </p:blipFill>
          <p:spPr>
            <a:xfrm>
              <a:off x="1287360" y="4370400"/>
              <a:ext cx="4400640" cy="111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文本框 23"/>
            <p:cNvSpPr/>
            <p:nvPr/>
          </p:nvSpPr>
          <p:spPr>
            <a:xfrm>
              <a:off x="1325160" y="4370400"/>
              <a:ext cx="1027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雀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2" name="文本框 27"/>
            <p:cNvSpPr/>
            <p:nvPr/>
          </p:nvSpPr>
          <p:spPr>
            <a:xfrm>
              <a:off x="2438280" y="4370400"/>
              <a:ext cx="1027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养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3" name="文本框 30"/>
            <p:cNvSpPr/>
            <p:nvPr/>
          </p:nvSpPr>
          <p:spPr>
            <a:xfrm>
              <a:off x="3516120" y="4379760"/>
              <a:ext cx="1027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男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4" name="文本框 34"/>
            <p:cNvSpPr/>
            <p:nvPr/>
          </p:nvSpPr>
          <p:spPr>
            <a:xfrm>
              <a:off x="4640040" y="4379760"/>
              <a:ext cx="1025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肯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35" name="文本框 4"/>
          <p:cNvSpPr/>
          <p:nvPr/>
        </p:nvSpPr>
        <p:spPr>
          <a:xfrm>
            <a:off x="5878440" y="52236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chéng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文本框 10"/>
          <p:cNvSpPr/>
          <p:nvPr/>
        </p:nvSpPr>
        <p:spPr>
          <a:xfrm>
            <a:off x="8247240" y="3749760"/>
            <a:ext cx="149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huò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7" name="组合 17"/>
          <p:cNvGrpSpPr/>
          <p:nvPr/>
        </p:nvGrpSpPr>
        <p:grpSpPr>
          <a:xfrm>
            <a:off x="8440560" y="4395960"/>
            <a:ext cx="2213280" cy="1106280"/>
            <a:chOff x="8440560" y="4395960"/>
            <a:chExt cx="2213280" cy="1106280"/>
          </a:xfrm>
        </p:grpSpPr>
        <p:pic>
          <p:nvPicPr>
            <p:cNvPr id="638" name="图片 7" descr=""/>
            <p:cNvPicPr/>
            <p:nvPr/>
          </p:nvPicPr>
          <p:blipFill>
            <a:blip r:embed="rId2"/>
            <a:srcRect l="945" t="1046" r="1235" b="1159"/>
            <a:stretch/>
          </p:blipFill>
          <p:spPr>
            <a:xfrm>
              <a:off x="8440560" y="4395960"/>
              <a:ext cx="110664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文本框 9"/>
            <p:cNvSpPr/>
            <p:nvPr/>
          </p:nvSpPr>
          <p:spPr>
            <a:xfrm>
              <a:off x="8463960" y="4395960"/>
              <a:ext cx="1029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或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640" name="图片 11" descr=""/>
            <p:cNvPicPr/>
            <p:nvPr/>
          </p:nvPicPr>
          <p:blipFill>
            <a:blip r:embed="rId3"/>
            <a:srcRect l="945" t="1046" r="1235" b="1159"/>
            <a:stretch/>
          </p:blipFill>
          <p:spPr>
            <a:xfrm>
              <a:off x="9547200" y="4395960"/>
              <a:ext cx="1106640" cy="11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1" name="文本框 13"/>
            <p:cNvSpPr/>
            <p:nvPr/>
          </p:nvSpPr>
          <p:spPr>
            <a:xfrm>
              <a:off x="9570600" y="4395960"/>
              <a:ext cx="10288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者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42" name="文本框 15"/>
          <p:cNvSpPr/>
          <p:nvPr/>
        </p:nvSpPr>
        <p:spPr>
          <a:xfrm>
            <a:off x="9352080" y="3749760"/>
            <a:ext cx="14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zh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3" name="组合 20"/>
          <p:cNvGrpSpPr/>
          <p:nvPr/>
        </p:nvGrpSpPr>
        <p:grpSpPr>
          <a:xfrm>
            <a:off x="890640" y="1166760"/>
            <a:ext cx="6289560" cy="1115280"/>
            <a:chOff x="890640" y="1166760"/>
            <a:chExt cx="6289560" cy="1115280"/>
          </a:xfrm>
        </p:grpSpPr>
        <p:grpSp>
          <p:nvGrpSpPr>
            <p:cNvPr id="644" name="组合 44"/>
            <p:cNvGrpSpPr/>
            <p:nvPr/>
          </p:nvGrpSpPr>
          <p:grpSpPr>
            <a:xfrm>
              <a:off x="890640" y="1166760"/>
              <a:ext cx="5222160" cy="1115280"/>
              <a:chOff x="890640" y="1166760"/>
              <a:chExt cx="5222160" cy="1115280"/>
            </a:xfrm>
          </p:grpSpPr>
          <p:pic>
            <p:nvPicPr>
              <p:cNvPr id="645" name="图片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890640" y="1166760"/>
                <a:ext cx="522216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6" name="文本框 5"/>
              <p:cNvSpPr/>
              <p:nvPr/>
            </p:nvSpPr>
            <p:spPr>
              <a:xfrm>
                <a:off x="936720" y="1172880"/>
                <a:ext cx="9237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郊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7" name="文本框 3"/>
              <p:cNvSpPr/>
              <p:nvPr/>
            </p:nvSpPr>
            <p:spPr>
              <a:xfrm>
                <a:off x="1963440" y="1166760"/>
                <a:ext cx="921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粉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8" name="文本框 8"/>
              <p:cNvSpPr/>
              <p:nvPr/>
            </p:nvSpPr>
            <p:spPr>
              <a:xfrm>
                <a:off x="3023640" y="1176120"/>
                <a:ext cx="9237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粒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49" name="文本框 12"/>
              <p:cNvSpPr/>
              <p:nvPr/>
            </p:nvSpPr>
            <p:spPr>
              <a:xfrm>
                <a:off x="4039560" y="1182600"/>
                <a:ext cx="9237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冻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650" name="文本框 14"/>
              <p:cNvSpPr/>
              <p:nvPr/>
            </p:nvSpPr>
            <p:spPr>
              <a:xfrm>
                <a:off x="5067000" y="1176120"/>
                <a:ext cx="9237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zh-CN" sz="6600" spc="-1" strike="noStrike" u="sng">
                    <a:solidFill>
                      <a:srgbClr val="565476"/>
                    </a:solidFill>
                    <a:uFillTx/>
                    <a:latin typeface="楷体"/>
                    <a:ea typeface="楷体"/>
                  </a:rPr>
                  <a:t>惜</a:t>
                </a:r>
                <a:endParaRPr b="0" i="1" lang="en-US" sz="66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pic>
          <p:nvPicPr>
            <p:cNvPr id="651" name="图片 18" descr=""/>
            <p:cNvPicPr/>
            <p:nvPr/>
          </p:nvPicPr>
          <p:blipFill>
            <a:blip r:embed="rId5"/>
            <a:srcRect l="945" t="1046" r="1235" b="1159"/>
            <a:stretch/>
          </p:blipFill>
          <p:spPr>
            <a:xfrm>
              <a:off x="6074280" y="1166760"/>
              <a:ext cx="1105920" cy="110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文本框 19"/>
            <p:cNvSpPr/>
            <p:nvPr/>
          </p:nvSpPr>
          <p:spPr>
            <a:xfrm>
              <a:off x="6113520" y="1166760"/>
              <a:ext cx="1028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6600" spc="-1" strike="noStrike" u="sng">
                  <a:solidFill>
                    <a:srgbClr val="565476"/>
                  </a:solidFill>
                  <a:uFillTx/>
                  <a:latin typeface="楷体"/>
                  <a:ea typeface="楷体"/>
                </a:rPr>
                <a:t>诚</a:t>
              </a:r>
              <a:endParaRPr b="0" i="1" lang="en-US" sz="6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77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8" dur="770" fill="hold"/>
                                        <p:tgtEl>
                                          <p:spTgt spid="6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0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2" dur="77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2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77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3" dur="770" fill="hold"/>
                                        <p:tgtEl>
                                          <p:spTgt spid="6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5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7" dur="77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05:07:00Z</dcterms:created>
  <dc:creator/>
  <dc:description/>
  <dc:language>en-US</dc:language>
  <cp:lastModifiedBy>万润仪器贸易公司</cp:lastModifiedBy>
  <dcterms:modified xsi:type="dcterms:W3CDTF">2020-08-19T03:09:48Z</dcterms:modified>
  <cp:revision>10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